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jpeg" ContentType="image/jpeg"/>
  <Override PartName="/ppt/media/image28.png" ContentType="image/png"/>
  <Override PartName="/ppt/media/image5.png" ContentType="image/png"/>
  <Override PartName="/ppt/media/image35.png" ContentType="image/png"/>
  <Override PartName="/ppt/media/image27.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50.png" ContentType="image/png"/>
  <Override PartName="/ppt/media/image30.png" ContentType="image/png"/>
  <Override PartName="/ppt/media/image40.png" ContentType="image/png"/>
  <Override PartName="/ppt/media/image41.png" ContentType="image/png"/>
  <Override PartName="/ppt/media/image9.png" ContentType="image/png"/>
  <Override PartName="/ppt/media/image39.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34.jpeg" ContentType="image/jpeg"/>
  <Override PartName="/ppt/media/image7.png" ContentType="image/png"/>
  <Override PartName="/ppt/media/image6.png" ContentType="image/png"/>
  <Override PartName="/ppt/media/image36.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05256-5669-49EA-B41D-9E40ADEE8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F03F4-EC82-405D-A85F-45F84D63F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8E416-A16E-40EE-B477-FB5872BA0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08A99-0A1B-455F-82A3-32B019731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03F1D-1A21-4662-84E4-1CBF3A424C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D02E5-C2D9-4953-BE68-205884250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C3DBD-8E03-47EF-BDD4-70792E069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BA045-8773-4CDB-A143-059FE0256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74190-E036-454E-A28C-FF5B89529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59F70-E6EF-4186-AA97-5AC7736B5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D76A4-7D28-45FF-AFD2-28F60E415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646DF-455D-42E8-AAFE-26D386791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FC1F8-D389-4603-9B14-EC8DE699F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A4A85-3C9F-4752-A2FC-90B1590D8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155DC-B2A3-4F72-83F4-DBAA33F96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B5E98-B3D0-44EA-B3F2-4FFC12A94E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B9AAE5-B76D-4E15-9E69-CA746E562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83BCD1-68C4-40A5-B122-119852CF04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DF2C0C-F9D1-4DED-9749-62F6931723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687393-9CEA-48C1-B70A-E49F1E3469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1E6949-4031-4472-8279-84B909EBCF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D36F8C-A6AB-4311-9324-375A29DB80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BEBAA-FB87-4151-97DC-245B43ED2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53371A-C40B-42E5-8561-7EBF556078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2ECABE-59D5-4419-BA9F-7D5EC3D689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8E7643-5CC2-4154-9615-0C53749F1B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C5E4CB-8FC9-44B3-A479-B55AA1805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A9D4D4-08A2-4F39-AD5C-1C6EC871CF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9DADD1-B940-486C-B232-E567657156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233D2F-0ED9-4449-B8BE-2A5C9C4E54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4C8334-8226-44FA-AE7A-A991256BB9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977F26-CBE7-406A-9EFB-81AB0BF3CB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51F493-2828-485D-AF5B-C4FE63072E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9C6F2-2E87-4FC3-B856-004824606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534F0E-EA93-4F34-9D5B-FD212F0E2A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E37A94-4B2A-4775-A92D-C8FD5FD642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A117BC-AE16-4A44-B78B-3F3B7C83E7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6AA958-EBCE-4188-8DA9-8003FAF243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E97C02-5664-42A4-B06B-B5D869083E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F5DE2E-B260-4237-A59B-45EC59FC61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91BF9A-3B61-4AAF-A729-06338DBD44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B0CD21-933F-4E6F-841B-E33BE9AE4C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F34F6F-CD6F-4776-84D6-B9050249B0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5BAD4E-4D88-41B1-8919-CAFA697BE2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C383D-8E69-481A-AE4A-F34F3CCCD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5F2FB4-4EDC-4E86-A618-9227D39B4F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B4CAC0-2827-442A-A7FA-3C9C25B0C1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964519-F53C-49FC-8508-5E90906A98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F87903-A83B-4121-A619-751E87B0EF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420ADB-E6E0-4462-92A4-B88816D2C0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6D6D4B-78FA-4463-AD9F-948DAD0FCA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B0D19E-9F47-4477-A9B4-0C7FD47695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92F1B9-40A1-4E2B-8666-3828383DB2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B3EFC5-072F-4075-A5F0-4569453B4D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579CCB-19C7-485C-98F3-756D690194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D5563-04BB-4025-94A8-21FD4710A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F8833C-8841-48DB-A774-53FC59E226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037359-EC16-46DD-9768-5ECE71D33E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DE62DF-AC32-4F9A-9631-3E49F9DB25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8B5223-7754-42C4-BF10-633A8995C5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0E64B7-ACDD-442D-A8B6-18B63076FE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8D6B4D-4865-4A36-B14B-75D78F58D1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EC94B2-18C9-4813-8BD7-5F103CE38E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B47F26-3D51-4F13-83B8-68AF84B898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E28B1E-8959-4F38-BCC2-0FA670601B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E9BB6E-87C5-494A-A8AE-218D7DD1EE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0558B-8C8F-4932-BCA2-20FBF4CDA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A37912-3D1D-43F0-A73E-80977BA5A6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07BC0F-8263-49DC-946D-12B297B41C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56D25E-27A0-4440-9127-F3ED0BA653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6D09F3-9259-4D5B-9A08-7A01C3A39C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607ABF-47E6-445C-B730-CDFBC22E54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BAA665-5390-4258-B3E8-07F2199709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F7D8FF-DCAC-4F0C-BC1C-425D5DF97A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538571-5512-452E-A985-ED112759F7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92776C-6E6E-4E3E-BB42-8D75389234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7C1273-4755-4732-B261-B5942907C3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633F1-5360-4E7E-8E97-D886CE9B4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F7EF28-946C-423B-8986-11153F963E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00CF30-9D36-472D-82C4-6D87FC4A03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84909B-6189-409C-B541-876ACE307E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542F0E-10F8-4087-9E35-AE6B90A17F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E56BBE-DDA5-4B2D-A23B-D4D779C2A7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8D60B-1953-4630-9737-C55011541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2CCD4-5D0F-4BAF-8B23-5A34EEB89D59}"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2176-4C69-4EAA-B914-2C166C13F2B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3518-895C-4324-903D-EC5F96DFBE8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BB81-082E-47D7-9DEA-3AF61ACE7BC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E9DA-CCE0-4E1A-9C94-A87AFBD4896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F0A58-0F84-497F-8D6A-464847286057}"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271A-B9BC-425A-ABA9-C96CDF14237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27320"/>
            <a:ext cx="8375760" cy="190836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orbel"/>
                <a:cs typeface="Tahoma"/>
              </a:rPr>
              <a:t>تهیه کننده: مریم رامین</a:t>
            </a:r>
            <a:endParaRPr b="0" lang="en-US" sz="2000" spc="-1" strike="noStrike">
              <a:solidFill>
                <a:srgbClr val="ffffff"/>
              </a:solidFill>
              <a:latin typeface="Corbe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22400" y="55440"/>
            <a:ext cx="8570880" cy="1359000"/>
          </a:xfrm>
          <a:prstGeom prst="rect">
            <a:avLst/>
          </a:prstGeom>
          <a:ln w="0">
            <a:noFill/>
          </a:ln>
        </p:spPr>
      </p:pic>
      <p:sp>
        <p:nvSpPr>
          <p:cNvPr id="322"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 طراحی آزمایشگاه و مطابقت انواع کار در آن، می بایست به شرایطی که در ایجاد مشکلات ایمنی شناخته شده اند توجه خاصی باشد. آنها شامل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شکیل آئرسول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با حجم ها یا غلظت های زیاد میکروارگانیسم ها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دیاد و شلوغی ابزار و وسایل</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یجاد مزاحمت با وسایل فرسوده و آتروپاد 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رود بدون مجوز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تفاده از نمونه ها و واکنش دهنده های ویژه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22">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22">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22">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22">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22">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15920" y="55440"/>
            <a:ext cx="8577360" cy="135900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طراحی محیط آزمایشگاه:</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فضای فراوان برای هدایت ایمن کارهای آزمایشگاهی و پاکسازی و نگهداری می بایست فراه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یوارها، سقف و کف ها می بایست صاف و هموار باشد ، به منظور سهولت در تمیزی ، نفوذ ناپذیری به مایعات و مقاومت در برابر مواد شیمیایی و ضدعفونی کننده ها که معمولا در آزمایشگاه بکار برده می شوند. کف ها نیز باید ضد لغزش و سر خوردگی باش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الای نیمکت می بایست به آب تأثیرناپذیر باشد و در برابر ضدعفونی کننده ها، اسیدها، بازها، حلالهای آلی و گرمای ملایم مقاو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روشنایی برای تمامی فعالیتها باید کافی باشد. از بازتاب های نامناسب و خیرگی می بایست دوری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باب و اثاثیه آزمایشگاه باید مقاوم باشند. فضاهای باز بین و زیر نیمکت ها، کابینت ها و وسایل می بایست برای پاکسازی قابل دسترس باشن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2" descr=""/>
          <p:cNvPicPr/>
          <p:nvPr/>
        </p:nvPicPr>
        <p:blipFill>
          <a:blip r:embed="rId1"/>
          <a:stretch/>
        </p:blipFill>
        <p:spPr>
          <a:xfrm>
            <a:off x="450720" y="-85680"/>
            <a:ext cx="8480520" cy="1652400"/>
          </a:xfrm>
          <a:prstGeom prst="rect">
            <a:avLst/>
          </a:prstGeom>
          <a:ln w="0">
            <a:noFill/>
          </a:ln>
        </p:spPr>
      </p:pic>
      <p:sp>
        <p:nvSpPr>
          <p:cNvPr id="326"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ی ذخیره سازی باید برای نگهداری مکمل ها به منظور استفاده سریع کافی باشد و بدین منظور از شلوغی وسایل روی نیمکت ها بپرهیزی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 و امکانات برای اداره کردن ایمنی و ذخیرۀ حلالها، مواد رادیواکتیو و گازهای فشرده و مایع شد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مکانات جهت خوردن و نوشیدن و استراحت کارکنان در خارج از محیط آزمایشگا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وانهای شستشوی دست با ریزش آب اگر ممکن است در هر اتاق آزمایشگاه ترجیحا نزدیک به درب خروج می بایست فراهم شو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دربها می بایست دارای پنلهای دید، امکانات ضد آتش سوزی و ترجیحا بسته شدن خود به خودی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طح </a:t>
            </a:r>
            <a:r>
              <a:rPr b="0" lang="fa-IR" sz="1900" spc="-1" strike="noStrike">
                <a:solidFill>
                  <a:srgbClr val="000000"/>
                </a:solidFill>
                <a:latin typeface="Corbel"/>
                <a:ea typeface="Tahoma"/>
              </a:rPr>
              <a:t>2</a:t>
            </a:r>
            <a:r>
              <a:rPr b="0" lang="fa-IR" sz="1900" spc="-1" strike="noStrike">
                <a:solidFill>
                  <a:srgbClr val="000000"/>
                </a:solidFill>
                <a:latin typeface="Corbel"/>
                <a:ea typeface="Tahoma"/>
              </a:rPr>
              <a:t> ایمنی بیولوژیکی ، اتوکلاو یا وسایل دیگر گندزدایی می بایست در نزدیکی آزمایشگاه در دسترس باشد.</a:t>
            </a:r>
            <a:endParaRPr b="0" lang="en-US" sz="1900" spc="-1" strike="noStrike">
              <a:solidFill>
                <a:srgbClr val="000000"/>
              </a:solidFill>
              <a:latin typeface="Corbel"/>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450720" y="79200"/>
            <a:ext cx="8480520" cy="133524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های کمک های اولیه بطور مناسب تجهیز شده و می بایست به راحتی در دسترس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طرح ریزی امکانات جدید، می بایست توجه لازم به تهیه سیستم های تهویه مکانیکی که جریان هوای داخلی را بدون گردش فراهم می کنند، داشته باشیم. اگر تهویه مکانیکی وجود ندارد، پنجره ها را که با صفحات تنظیم کننده دما پوشیده شده می توان باز کر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یک منبع آب با کیفیت خوب، هیچ ارتباطی بین منابع آزمایشگاهی و آب قابل شرب وجود ندارد. یک وسیله حفاظتی می بایست برای سیستم آب عمومی نصب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منابع الکتریکی کافی و مطمئن و نور اضطراری برای خروج ایمن، یک ژنراتور آماده برای حمایت از وسایل حیاتی مانند ماشین های جوجه کشی، کابینت های ایمنی بیولوژیکی ، فریزرها،... و برای تهویه قفسهای حیوانات می بایست وجود داشته باش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آزمایشگاه ها و حیوان خانه ها اغلب اهداف خرابکاران هستند. بنابراین باید امنیت فیزیکی و آتش سوزی رعایت شود. ایجاد دربهای قوی، پنجره های محفوظ شده و کلیدهای محدود شده همگی اجباری هستند.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219240" y="-6480"/>
            <a:ext cx="8474040" cy="1427400"/>
          </a:xfrm>
          <a:prstGeom prst="rect">
            <a:avLst/>
          </a:prstGeom>
          <a:ln w="0">
            <a:noFill/>
          </a:ln>
        </p:spPr>
      </p:pic>
      <p:pic>
        <p:nvPicPr>
          <p:cNvPr id="330" name="Content Placeholder 3" descr="1.bmp"/>
          <p:cNvPicPr/>
          <p:nvPr/>
        </p:nvPicPr>
        <p:blipFill>
          <a:blip r:embed="rId2"/>
          <a:stretch/>
        </p:blipFill>
        <p:spPr>
          <a:xfrm>
            <a:off x="838080" y="1828800"/>
            <a:ext cx="7239240" cy="464832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219240" y="-6480"/>
            <a:ext cx="8474040" cy="1427400"/>
          </a:xfrm>
          <a:prstGeom prst="rect">
            <a:avLst/>
          </a:prstGeom>
          <a:ln w="0">
            <a:noFill/>
          </a:ln>
        </p:spPr>
      </p:pic>
      <p:pic>
        <p:nvPicPr>
          <p:cNvPr id="332" name="Content Placeholder 3" descr="2.bmp"/>
          <p:cNvPicPr/>
          <p:nvPr/>
        </p:nvPicPr>
        <p:blipFill>
          <a:blip r:embed="rId2"/>
          <a:stretch/>
        </p:blipFill>
        <p:spPr>
          <a:xfrm>
            <a:off x="609480" y="1676520"/>
            <a:ext cx="7772400" cy="497340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22400" y="55440"/>
            <a:ext cx="8570880" cy="135900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لوازم آزمایشگاهی:</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لوازم انتخاب شده می بایست بر اساس این اصول باشد:</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ه منظور پیشگیری یا محدود کردن تماس بین اپراتور و مواد عفونت زا طراحی شده باش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اخت موادی که به مایعات نفوذ ناپذیر و مقاوم در برابر فساد تدریجی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لوازم ساخته شده می بایست بدون برآمدگی، لبه های تیز و قسمت های متحرک بدون حفاظ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طراحی شده ، ساخته شده و نصب شده به لوازم ساده و فراهم آوری سهولت در نگهداری، پاکسازی ، گندزدایی و آزمایش آنها از عینک و سایر مواد شکننده   می بایست پرهیز کر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22400" y="55440"/>
            <a:ext cx="8570880" cy="1359000"/>
          </a:xfrm>
          <a:prstGeom prst="rect">
            <a:avLst/>
          </a:prstGeom>
          <a:ln w="0">
            <a:noFill/>
          </a:ln>
        </p:spPr>
      </p:pic>
      <p:sp>
        <p:nvSpPr>
          <p:cNvPr id="33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لوازم ضروری ایمنی بیولوژیکی:</a:t>
            </a:r>
            <a:endParaRPr b="0" lang="en-US" sz="28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با پیپت – از کاربرد پیپت با دهان بپرهیزید. طرح های متفاوت زیادی در این خصوص در دسترس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بینت های حفاظتی بیولوژیکی ، در این موارد باید استفاده شود:</a:t>
            </a:r>
            <a:endParaRPr b="0" lang="en-US" sz="2000" spc="-1" strike="noStrike">
              <a:solidFill>
                <a:srgbClr val="000000"/>
              </a:solidFill>
              <a:latin typeface="Corbel"/>
            </a:endParaRPr>
          </a:p>
          <a:p>
            <a:pPr lvl="1" marL="514440" indent="-514440" algn="r" rtl="1">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مانند سانتریفوژ : این مواد در آزمایشگاه سر باز اگر از فنجان های ایمن سانتریفوژی مهر و موم شده استفاده شود و اگر آنها را در کابینت حفاظتی بیولوژیکی یا بارگذاری شده یا نشده اند.</a:t>
            </a:r>
            <a:endParaRPr b="0" lang="en-US" sz="20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جود ازدیاد ریسک عفونت هوابردها</a:t>
            </a:r>
            <a:endParaRPr b="0" lang="en-US" sz="2000" spc="-1" strike="noStrike">
              <a:solidFill>
                <a:srgbClr val="000000"/>
              </a:solidFill>
              <a:latin typeface="Corbel"/>
            </a:endParaRPr>
          </a:p>
          <a:p>
            <a:pPr lvl="1" marL="514440" indent="-514440" algn="r" rtl="1">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روشهایی که  برای تولید هوابردها استفاده می شوند ، شامل : سانتریفوژ، مخلوط کردن، آسیاب کردن، تکان دادن شدید، تجزیه صوتی، بازکردن نگهدارنده های مواد عفونی که فشار داخلی آنها از فشار محدود می تواند متفاوت باشد ، تلقیح حیوانات و کشت بافت های عفونی از حیوانات و تخمها.</a:t>
            </a:r>
            <a:endParaRPr b="0" lang="en-US" sz="2200" spc="-1" strike="noStrike">
              <a:solidFill>
                <a:srgbClr val="000000"/>
              </a:solidFill>
              <a:latin typeface="Corbel"/>
            </a:endParaRPr>
          </a:p>
          <a:p>
            <a:pPr marL="438120" indent="-318960" algn="r" rtl="1">
              <a:buClr>
                <a:srgbClr val="f0ad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36">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152280"/>
            <a:ext cx="8444160" cy="1262160"/>
          </a:xfrm>
          <a:prstGeom prst="rect">
            <a:avLst/>
          </a:prstGeom>
          <a:ln w="0">
            <a:noFill/>
          </a:ln>
        </p:spPr>
      </p:pic>
      <p:sp>
        <p:nvSpPr>
          <p:cNvPr id="33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چهای ناقل پلاستیکی یکبار مصرف. پیچ انتقال الکتریکی کوره های آشغال سوز در داخل کابینت حفاظتی بیولوژیکی برای کاهش تولید آئرسول استفاده   م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طری ها و تیوبهای درپوش دار</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توکلاو یا وسایل دیگر مناسب به منظور گندزدایی مواد عفونت زا</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پلاستیک یکبار مصرف، اگر امکان دارد از شیشه ای بپرهیزی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بزاری مانند اتوکلاو و کابینت های حفاظتی بیولوژیکی می بایست قبل از استفاده با متدهای مناسب معتبر شوند. ممکن است طبق دستورالعمل تولید کننده در فواصل زمانی منظم سانتریفوژ دوباره انجام گیرد. </a:t>
            </a:r>
            <a:endParaRPr b="0" lang="en-US" sz="2000" spc="-1" strike="noStrike">
              <a:solidFill>
                <a:srgbClr val="000000"/>
              </a:solidFill>
              <a:latin typeface="Corbel"/>
            </a:endParaRPr>
          </a:p>
        </p:txBody>
      </p:sp>
    </p:spTree>
  </p:cSld>
  <p:transition>
    <p:split dir="in"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52280"/>
            <a:ext cx="8504280" cy="1262160"/>
          </a:xfrm>
          <a:prstGeom prst="rect">
            <a:avLst/>
          </a:prstGeom>
          <a:ln w="0">
            <a:noFill/>
          </a:ln>
        </p:spPr>
      </p:pic>
      <p:sp>
        <p:nvSpPr>
          <p:cNvPr id="340" name=""/>
          <p:cNvSpPr txBox="1"/>
          <p:nvPr/>
        </p:nvSpPr>
        <p:spPr>
          <a:xfrm>
            <a:off x="457200" y="1774800"/>
            <a:ext cx="8229600" cy="4626000"/>
          </a:xfrm>
          <a:prstGeom prst="rect">
            <a:avLst/>
          </a:prstGeom>
          <a:noFill/>
          <a:ln w="0">
            <a:noFill/>
          </a:ln>
        </p:spPr>
        <p:txBody>
          <a:bodyPr lIns="54720" tIns="91440" anchor="t">
            <a:normAutofit/>
          </a:bodyPr>
          <a:p>
            <a:pPr marL="457200" indent="-45720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with infectious agents which cause serious or potentially lethal disease as a result of exposure</a:t>
            </a:r>
            <a:r>
              <a:rPr b="1" lang="fa-IR" sz="3200" spc="-1" strike="noStrike">
                <a:solidFill>
                  <a:srgbClr val="003399"/>
                </a:solidFill>
                <a:latin typeface="Corbel"/>
                <a:ea typeface="Tahoma"/>
              </a:rPr>
              <a:t> </a:t>
            </a:r>
            <a:r>
              <a:rPr b="1" lang="en-US" sz="3200" spc="-1" strike="noStrike">
                <a:solidFill>
                  <a:srgbClr val="003399"/>
                </a:solidFill>
                <a:latin typeface="Corbel"/>
              </a:rPr>
              <a:t> by the inhalation route</a:t>
            </a:r>
            <a:r>
              <a:rPr b="1" lang="fa-IR" sz="3200" spc="-1" strike="noStrike">
                <a:solidFill>
                  <a:srgbClr val="003399"/>
                </a:solidFill>
                <a:latin typeface="Corbel"/>
                <a:ea typeface="Tahoma"/>
              </a:rPr>
              <a:t>.</a:t>
            </a: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TB   </a:t>
            </a:r>
            <a:r>
              <a:rPr b="1" lang="fa-IR" sz="3200" spc="-1" strike="noStrike">
                <a:solidFill>
                  <a:srgbClr val="003399"/>
                </a:solidFill>
                <a:latin typeface="Corbel"/>
                <a:ea typeface="Tahoma"/>
              </a:rPr>
              <a:t>&amp;</a:t>
            </a:r>
            <a:r>
              <a:rPr b="1" lang="en-US" sz="3200" spc="-1" strike="noStrike">
                <a:solidFill>
                  <a:srgbClr val="003399"/>
                </a:solidFill>
                <a:latin typeface="Corbel"/>
              </a:rPr>
              <a:t>    HIV</a:t>
            </a:r>
            <a:endParaRPr b="0" lang="en-US" sz="3200" spc="-1" strike="noStrike">
              <a:solidFill>
                <a:srgbClr val="000000"/>
              </a:solidFill>
              <a:latin typeface="Corbe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340">
                                            <p:txEl>
                                              <p:pRg st="0" end="0"/>
                                            </p:txEl>
                                          </p:spTgt>
                                        </p:tgtEl>
                                        <p:attrNameLst>
                                          <p:attrName>style.visibility</p:attrName>
                                        </p:attrNameLst>
                                      </p:cBhvr>
                                      <p:to>
                                        <p:strVal val="visible"/>
                                      </p:to>
                                    </p:set>
                                    <p:animEffect filter="diamond(in)" transition="in">
                                      <p:cBhvr additive="repl">
                                        <p:cTn id="291" dur="2000"/>
                                        <p:tgtEl>
                                          <p:spTgt spid="340">
                                            <p:txEl>
                                              <p:pRg st="0" end="0"/>
                                            </p:txEl>
                                          </p:spTgt>
                                        </p:tgtEl>
                                      </p:cBhvr>
                                    </p:animEffect>
                                  </p:childTnLst>
                                </p:cTn>
                              </p:par>
                              <p:par>
                                <p:cTn id="292" nodeType="withEffect" fill="hold" presetClass="entr" presetID="8" presetSubtype="16">
                                  <p:stCondLst>
                                    <p:cond delay="0"/>
                                  </p:stCondLst>
                                  <p:childTnLst>
                                    <p:set>
                                      <p:cBhvr>
                                        <p:cTn id="293" dur="1" fill="hold">
                                          <p:stCondLst>
                                            <p:cond delay="0"/>
                                          </p:stCondLst>
                                        </p:cTn>
                                        <p:tgtEl>
                                          <p:spTgt spid="340">
                                            <p:txEl>
                                              <p:pRg st="1" end="1"/>
                                            </p:txEl>
                                          </p:spTgt>
                                        </p:tgtEl>
                                        <p:attrNameLst>
                                          <p:attrName>style.visibility</p:attrName>
                                        </p:attrNameLst>
                                      </p:cBhvr>
                                      <p:to>
                                        <p:strVal val="visible"/>
                                      </p:to>
                                    </p:set>
                                    <p:animEffect filter="diamond(in)" transition="in">
                                      <p:cBhvr additive="repl">
                                        <p:cTn id="294" dur="2000"/>
                                        <p:tgtEl>
                                          <p:spTgt spid="3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60480" y="-6480"/>
            <a:ext cx="8632800" cy="142740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بدون ریسک فردی یا کم و ریسک گروهی): یک میکروارگانیسمی غیر محتمل است که بیماری های انسانی یا حیوانی را مسبب باشد.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متوسط، ریسک گروهی پائین)</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ی تواند مسبب بیماری انسان یا حیوان شود اما خطر جدی برای کارکنان آزمایشگاه و گروه ها ، ذخیرۀ زنده یا محیط محسوب نمی شون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3</a:t>
            </a:r>
            <a:r>
              <a:rPr b="0" lang="en-US" sz="2000" spc="-1" strike="noStrike">
                <a:solidFill>
                  <a:srgbClr val="000000"/>
                </a:solidFill>
                <a:latin typeface="Corbel"/>
              </a:rPr>
              <a:t>Risk group</a:t>
            </a:r>
            <a:r>
              <a:rPr b="0" lang="en-US" sz="2000" spc="-1" strike="noStrike">
                <a:solidFill>
                  <a:srgbClr val="000000"/>
                </a:solidFill>
                <a:latin typeface="Corbel"/>
              </a:rPr>
              <a:t> </a:t>
            </a:r>
            <a:r>
              <a:rPr b="0" lang="fa-IR" sz="2000" spc="-1" strike="noStrike">
                <a:solidFill>
                  <a:srgbClr val="000000"/>
                </a:solidFill>
                <a:latin typeface="Corbel"/>
                <a:ea typeface="Tahoma"/>
              </a:rPr>
              <a:t>(ریسک فردی بالا، ریسک گروهی کم)</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انسان یا حیوان را باعث می شود اما معمولا از یک فرد مبتلا شده به دیگری سرایت نمی کند. درمان مؤثر و اقدامات پیشگیرانه در دسترس است.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4</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و گروهی بالا)</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حیوان یا انسان را باعث می شود و به راحتی بطور مستقیم یا غیر مستقیم از یک فرد به فرد دیگری انتقال می یابد و درمان مؤثر و اقدامات پیشگیرانه معمولا در دسترس نیستند.</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06">
                                            <p:txEl>
                                              <p:pRg st="0" end="0"/>
                                            </p:txEl>
                                          </p:spTgt>
                                        </p:tgtEl>
                                        <p:attrNameLst>
                                          <p:attrName>style.visibility</p:attrName>
                                        </p:attrNameLst>
                                      </p:cBhvr>
                                      <p:to>
                                        <p:strVal val="visible"/>
                                      </p:to>
                                    </p:set>
                                    <p:animEffect filter="box(in)" transition="in">
                                      <p:cBhvr additive="repl">
                                        <p:cTn id="7" dur="500"/>
                                        <p:tgtEl>
                                          <p:spTgt spid="3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06">
                                            <p:txEl>
                                              <p:pRg st="1" end="1"/>
                                            </p:txEl>
                                          </p:spTgt>
                                        </p:tgtEl>
                                        <p:attrNameLst>
                                          <p:attrName>style.visibility</p:attrName>
                                        </p:attrNameLst>
                                      </p:cBhvr>
                                      <p:to>
                                        <p:strVal val="visible"/>
                                      </p:to>
                                    </p:set>
                                    <p:animEffect filter="box(in)" transition="in">
                                      <p:cBhvr additive="repl">
                                        <p:cTn id="12" dur="500"/>
                                        <p:tgtEl>
                                          <p:spTgt spid="3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06">
                                            <p:txEl>
                                              <p:pRg st="2" end="2"/>
                                            </p:txEl>
                                          </p:spTgt>
                                        </p:tgtEl>
                                        <p:attrNameLst>
                                          <p:attrName>style.visibility</p:attrName>
                                        </p:attrNameLst>
                                      </p:cBhvr>
                                      <p:to>
                                        <p:strVal val="visible"/>
                                      </p:to>
                                    </p:set>
                                    <p:animEffect filter="box(in)" transition="in">
                                      <p:cBhvr additive="repl">
                                        <p:cTn id="17" dur="500"/>
                                        <p:tgtEl>
                                          <p:spTgt spid="3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06">
                                            <p:txEl>
                                              <p:pRg st="3" end="3"/>
                                            </p:txEl>
                                          </p:spTgt>
                                        </p:tgtEl>
                                        <p:attrNameLst>
                                          <p:attrName>style.visibility</p:attrName>
                                        </p:attrNameLst>
                                      </p:cBhvr>
                                      <p:to>
                                        <p:strVal val="visible"/>
                                      </p:to>
                                    </p:set>
                                    <p:animEffect filter="box(in)" transition="in">
                                      <p:cBhvr additive="repl">
                                        <p:cTn id="22" dur="5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122400" y="55440"/>
            <a:ext cx="8570880" cy="135900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imes New Roman"/>
              </a:rPr>
              <a:t>كد عمليات:</a:t>
            </a:r>
            <a:endParaRPr b="0" lang="en-US" sz="32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Tahoma"/>
              </a:rPr>
              <a:t>همان کد عملیاتی است که برای سطوح </a:t>
            </a:r>
            <a:r>
              <a:rPr b="1" lang="fa-IR" sz="1800" spc="-1" strike="noStrike">
                <a:solidFill>
                  <a:srgbClr val="000000"/>
                </a:solidFill>
                <a:latin typeface="Arial"/>
                <a:ea typeface="Tahoma"/>
              </a:rPr>
              <a:t>1</a:t>
            </a:r>
            <a:r>
              <a:rPr b="1" lang="fa-IR" sz="1800" spc="-1" strike="noStrike">
                <a:solidFill>
                  <a:srgbClr val="000000"/>
                </a:solidFill>
                <a:latin typeface="Arial"/>
                <a:cs typeface="Tahoma"/>
              </a:rPr>
              <a:t>و</a:t>
            </a:r>
            <a:r>
              <a:rPr b="1" lang="fa-IR" sz="1800" spc="-1" strike="noStrike">
                <a:solidFill>
                  <a:srgbClr val="000000"/>
                </a:solidFill>
                <a:latin typeface="Arial"/>
                <a:ea typeface="Tahoma"/>
              </a:rPr>
              <a:t>2</a:t>
            </a:r>
            <a:r>
              <a:rPr b="1" lang="fa-IR" sz="1800" spc="-1" strike="noStrike">
                <a:solidFill>
                  <a:srgbClr val="000000"/>
                </a:solidFill>
                <a:latin typeface="Arial"/>
                <a:ea typeface="Tahoma"/>
              </a:rPr>
              <a:t> در نظر گرفته شده به جز مواردی که نیاز به اطلاعات داشته باشد. مانند :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علائم و نشانهای هشدار خطرات بیولوژیکی بین المللی نصب شده روی دربهای آزمایشگاه بایستی سطح ایمنی بیولوژیکی و نام سرپرست آزمایشگاه را نشان داده باشد و هر شرایط ویژه را برای ورود به داخل محیطی مانند مصون سازی متذکر شده باش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لباسهای حفاظتی آزمایشگاه بایستی از نوع محکم و یکپارچه باشند مانند گانها، لباسهای یکسره، سرپوشها و پاپوشها ، کتهای جلو دگمه دار استاندارد آزمایشگاهی مانند لباسهای آستین دار که به طور کامل قسمت جلویی بازو را پوشش نمی دهند، نامناسبند. لباسهای حفاظتی آزمایشگاه را نباید بیرون از آزمایشگاه پوشید و قبل از شستشو بایستی پاکسازی شون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دستکاری تمام مواد بالقوه عفونت زا بایستی به کابینت حفاظتی بیولوژیکی یا وسایل آلوده اولیه دیگر هدایت شوند.</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وسایل حفاظت تنفسی برای برخی روش های آزمایشگاهی یا کار با حیوانات مبتلا به پاتوژن های ویژه ضروری است.</a:t>
            </a:r>
            <a:endParaRPr b="0" lang="en-US" sz="1800" spc="-1" strike="noStrike">
              <a:solidFill>
                <a:srgbClr val="000000"/>
              </a:solidFill>
              <a:latin typeface="Corbel"/>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60480" y="-122400"/>
            <a:ext cx="8632800" cy="1762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rbel"/>
                <a:cs typeface="Tahoma"/>
              </a:rPr>
              <a:t>طراحی آزمایشگاه و امکانات:</a:t>
            </a:r>
            <a:endParaRPr b="0" lang="en-US" sz="26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Corbel"/>
                <a:cs typeface="Tahoma"/>
              </a:rPr>
              <a:t>این قسمت نیز مانند آزمایشگاه های پایه – سطح </a:t>
            </a:r>
            <a:r>
              <a:rPr b="1" lang="fa-IR" sz="1900" spc="-1" strike="noStrike">
                <a:solidFill>
                  <a:srgbClr val="000000"/>
                </a:solidFill>
                <a:latin typeface="Corbel"/>
                <a:ea typeface="Tahoma"/>
              </a:rPr>
              <a:t>1</a:t>
            </a:r>
            <a:r>
              <a:rPr b="1" lang="fa-IR" sz="1900" spc="-1" strike="noStrike">
                <a:solidFill>
                  <a:srgbClr val="000000"/>
                </a:solidFill>
                <a:latin typeface="Corbel"/>
                <a:cs typeface="Tahoma"/>
              </a:rPr>
              <a:t>و</a:t>
            </a:r>
            <a:r>
              <a:rPr b="1" lang="fa-IR" sz="1900" spc="-1" strike="noStrike">
                <a:solidFill>
                  <a:srgbClr val="000000"/>
                </a:solidFill>
                <a:latin typeface="Corbel"/>
                <a:ea typeface="Tahoma"/>
              </a:rPr>
              <a:t>2</a:t>
            </a:r>
            <a:r>
              <a:rPr b="1" lang="fa-IR" sz="1900" spc="-1" strike="noStrike">
                <a:solidFill>
                  <a:srgbClr val="000000"/>
                </a:solidFill>
                <a:latin typeface="Corbel"/>
                <a:ea typeface="Tahoma"/>
              </a:rPr>
              <a:t> انجام می پذیرد به جز موارد اصلاحی زیر:</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اختن آزمایشگاه بایستی رعایت شود که این مکان از نواحی که بدون هیچ محدودیتی در معرض جریان هوای شدید هستند دور باشد.</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بهای اتاق جلویی دارای سیستم قفل مرکزی و بسته شدن خود به خودی هستند بنابراین تنها یک درب در آن زمان باز است.</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سطوح دیوارها، کف ها و سقف ها بایستی مقاوم در برابر آب باشد و به راحتی تمیز شوند. تمام سطوح باز در این مکان ها بایستی پوشیده و مهر و موم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آزمایشگاه بایستی عاری از هر گونه آلودگی باشد. سیستم هدایت هوا بایستی به منظور پاکسازی گازی ساخته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نجره ها بایستی بسته، مهر و موم شده و مقاوم در برابر شکستگی باشند. </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0720" y="152280"/>
            <a:ext cx="8412120" cy="1262160"/>
          </a:xfrm>
          <a:prstGeom prst="rect">
            <a:avLst/>
          </a:prstGeom>
          <a:ln w="0">
            <a:noFill/>
          </a:ln>
        </p:spPr>
      </p:pic>
      <p:sp>
        <p:nvSpPr>
          <p:cNvPr id="346" name=""/>
          <p:cNvSpPr txBox="1"/>
          <p:nvPr/>
        </p:nvSpPr>
        <p:spPr>
          <a:xfrm>
            <a:off x="457200" y="1066680"/>
            <a:ext cx="8229600" cy="5059440"/>
          </a:xfrm>
          <a:prstGeom prst="rect">
            <a:avLst/>
          </a:prstGeom>
          <a:noFill/>
          <a:ln w="0">
            <a:noFill/>
          </a:ln>
        </p:spPr>
        <p:txBody>
          <a:bodyPr lIns="54720" tIns="91440" anchor="t">
            <a:normAutofit fontScale="99000"/>
          </a:bodyPr>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یستگاه شستشوی دست با قابلیت کنترل بدون دست بایستی در نزدیکی هر درب خروج فراهم شو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کنترل شده به منظور نگهداری جریان هوای مستقیم به داخل اتاق آزمایشگاه بایستی وجود داشته باشد.پایش تصویری با یا بدون زنگ بایستی نصب شود تا کارگر از وجود جریان هوای مناسب داخل اتاق اطمینان حاصل کن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ساختمان حتما با نیتی ساخته شود تا هوا از آزمایشگاه آلوده – ایمنی بیولوژیکی سطح </a:t>
            </a:r>
            <a:r>
              <a:rPr b="0" lang="fa-IR" sz="1700" spc="-1" strike="noStrike">
                <a:solidFill>
                  <a:srgbClr val="000000"/>
                </a:solidFill>
                <a:latin typeface="Corbel"/>
                <a:ea typeface="Tahoma"/>
              </a:rPr>
              <a:t>3</a:t>
            </a:r>
            <a:r>
              <a:rPr b="0" lang="fa-IR" sz="1700" spc="-1" strike="noStrike">
                <a:solidFill>
                  <a:srgbClr val="000000"/>
                </a:solidFill>
                <a:latin typeface="Corbel"/>
                <a:ea typeface="Tahoma"/>
              </a:rPr>
              <a:t> به نواحی دیگر در ساختمان به گردش در نمی آید. . سیستم کنترل گرمایی، تهویه و شرایط جوی به منظور پیشگیری از فشارسازی مثبت بدست آمده در آزمایشگاه بایستی نصب شو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تمامی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بایستی در جهت انجام پاکسازی گازی نصب شو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کابینت های حفاظتی بیولوژیکی بایستی دور از نواحی راه رفتن و خارج از جریان های مخالف از درب ها و سیستم تهویه باش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توکلاو برای پاکسازی مواد دفعی آلوده بایستی در آزمایشگاه آلوده وجود داشته باشد </a:t>
            </a:r>
            <a:endParaRPr b="0" lang="en-US" sz="1700" spc="-1" strike="noStrike">
              <a:solidFill>
                <a:srgbClr val="000000"/>
              </a:solidFill>
              <a:latin typeface="Corbel"/>
            </a:endParaRPr>
          </a:p>
          <a:p>
            <a:pPr marL="509040" indent="-509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هوای خروجی از کابینت های حفاظتی بیولوژیکی کلاس </a:t>
            </a:r>
            <a:r>
              <a:rPr b="0" lang="en-US" sz="1700" spc="-1" strike="noStrike">
                <a:solidFill>
                  <a:srgbClr val="000000"/>
                </a:solidFill>
                <a:latin typeface="Corbel"/>
              </a:rPr>
              <a:t>I</a:t>
            </a:r>
            <a:r>
              <a:rPr b="0" lang="fa-IR" sz="1700" spc="-1" strike="noStrike">
                <a:solidFill>
                  <a:srgbClr val="000000"/>
                </a:solidFill>
                <a:latin typeface="Corbel"/>
                <a:ea typeface="Tahoma"/>
              </a:rPr>
              <a:t> یا </a:t>
            </a:r>
            <a:r>
              <a:rPr b="0" lang="en-US" sz="1700" spc="-1" strike="noStrike">
                <a:solidFill>
                  <a:srgbClr val="000000"/>
                </a:solidFill>
                <a:latin typeface="Corbel"/>
              </a:rPr>
              <a:t>II</a:t>
            </a:r>
            <a:r>
              <a:rPr b="0" lang="fa-IR" sz="1700" spc="-1" strike="noStrike">
                <a:solidFill>
                  <a:srgbClr val="000000"/>
                </a:solidFill>
                <a:latin typeface="Corbel"/>
                <a:ea typeface="Tahoma"/>
              </a:rPr>
              <a:t> که از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عبور خواهند کرد، بایستی طوری تخلیه شود که از تداخل با تعادل هوای کابینت یا سیستم خروجی ساختمان دوری کند.  </a:t>
            </a:r>
            <a:endParaRPr b="0" lang="en-US" sz="1700" spc="-1" strike="noStrike">
              <a:solidFill>
                <a:srgbClr val="000000"/>
              </a:solidFill>
              <a:latin typeface="Corbel"/>
            </a:endParaRPr>
          </a:p>
        </p:txBody>
      </p:sp>
    </p:spTree>
  </p:cSld>
  <p:transition>
    <p:split dir="in" orient="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46">
                                            <p:txEl>
                                              <p:pRg st="5" end="5"/>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6">
                                            <p:txEl>
                                              <p:pRg st="8" end="8"/>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46">
                                            <p:txEl>
                                              <p:pRg st="9" end="9"/>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4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219240" y="-6480"/>
            <a:ext cx="8474040" cy="1427400"/>
          </a:xfrm>
          <a:prstGeom prst="rect">
            <a:avLst/>
          </a:prstGeom>
          <a:ln w="0">
            <a:noFill/>
          </a:ln>
        </p:spPr>
      </p:pic>
      <p:pic>
        <p:nvPicPr>
          <p:cNvPr id="348" name="Content Placeholder 3" descr="3.bmp"/>
          <p:cNvPicPr/>
          <p:nvPr/>
        </p:nvPicPr>
        <p:blipFill>
          <a:blip r:embed="rId2"/>
          <a:stretch/>
        </p:blipFill>
        <p:spPr>
          <a:xfrm>
            <a:off x="685800" y="1905120"/>
            <a:ext cx="7467480" cy="449568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8520" y="55440"/>
            <a:ext cx="8564760" cy="1359000"/>
          </a:xfrm>
          <a:prstGeom prst="rect">
            <a:avLst/>
          </a:prstGeom>
          <a:ln w="0">
            <a:noFill/>
          </a:ln>
        </p:spPr>
      </p:pic>
      <p:sp>
        <p:nvSpPr>
          <p:cNvPr id="350" name=""/>
          <p:cNvSpPr txBox="1"/>
          <p:nvPr/>
        </p:nvSpPr>
        <p:spPr>
          <a:xfrm>
            <a:off x="457200" y="1646280"/>
            <a:ext cx="8229600" cy="452592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وسایل آزمایشگاه: </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اصول انتخاب وسایل آزمایشگاهی که شامل کابینت های حفاظتی بیولوژیکی هستند همانند موارد ذکر شده در آزمایشگاه پایه – سطح </a:t>
            </a:r>
            <a:r>
              <a:rPr b="0" lang="fa-IR" sz="2200" spc="-1" strike="noStrike">
                <a:solidFill>
                  <a:srgbClr val="000000"/>
                </a:solidFill>
                <a:latin typeface="Corbel"/>
                <a:ea typeface="Tahoma"/>
              </a:rPr>
              <a:t>2</a:t>
            </a:r>
            <a:r>
              <a:rPr b="0" lang="fa-IR" sz="2200" spc="-1" strike="noStrike">
                <a:solidFill>
                  <a:srgbClr val="000000"/>
                </a:solidFill>
                <a:latin typeface="Corbel"/>
                <a:ea typeface="Tahoma"/>
              </a:rPr>
              <a:t> ایمنی بیولوژیکی است. البته در سطح </a:t>
            </a:r>
            <a:r>
              <a:rPr b="0" lang="fa-IR" sz="2200" spc="-1" strike="noStrike">
                <a:solidFill>
                  <a:srgbClr val="000000"/>
                </a:solidFill>
                <a:latin typeface="Corbel"/>
                <a:ea typeface="Tahoma"/>
              </a:rPr>
              <a:t>3</a:t>
            </a:r>
            <a:r>
              <a:rPr b="0" lang="fa-IR" sz="2200" spc="-1" strike="noStrike">
                <a:solidFill>
                  <a:srgbClr val="000000"/>
                </a:solidFill>
                <a:latin typeface="Corbel"/>
                <a:cs typeface="Tahoma"/>
              </a:rPr>
              <a:t>، دستکاری تمام مواد بالقوه عفونت زا بایستی از طریق کابینت حفاظتی بیولوژیکی یا وسایل آلوده اولیه کنترل شوند. توجه لازم به وسایلی مانند سانتریفوژها باید اعمال شود زیرا آنها نیازمند وسایل جانبی آلوده  اضافی هستند. برخی سانتریفوژها و وسایل دیگر مانند ابزار چیدمان سل با سلهای عفونی ممکن است به تهویه خروجی موضعی اضافی با فیلتراسیون </a:t>
            </a:r>
            <a:r>
              <a:rPr b="0" lang="en-US" sz="2200" spc="-1" strike="noStrike">
                <a:solidFill>
                  <a:srgbClr val="000000"/>
                </a:solidFill>
                <a:latin typeface="Corbel"/>
              </a:rPr>
              <a:t>HEPA</a:t>
            </a:r>
            <a:r>
              <a:rPr b="0" lang="fa-IR" sz="2200" spc="-1" strike="noStrike">
                <a:solidFill>
                  <a:srgbClr val="000000"/>
                </a:solidFill>
                <a:latin typeface="Corbel"/>
                <a:ea typeface="Tahoma"/>
              </a:rPr>
              <a:t> به منظور آلودگی مؤثر نیاز داشته باشند.</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pic>
        <p:nvPicPr>
          <p:cNvPr id="352" name="Picture 8" descr="Anteroom_log&amp;gownarea"/>
          <p:cNvPicPr/>
          <p:nvPr/>
        </p:nvPicPr>
        <p:blipFill>
          <a:blip r:embed="rId2"/>
          <a:stretch/>
        </p:blipFill>
        <p:spPr>
          <a:xfrm>
            <a:off x="762120" y="1676520"/>
            <a:ext cx="3504960" cy="4267080"/>
          </a:xfrm>
          <a:prstGeom prst="rect">
            <a:avLst/>
          </a:prstGeom>
          <a:ln w="0">
            <a:noFill/>
          </a:ln>
        </p:spPr>
      </p:pic>
      <p:pic>
        <p:nvPicPr>
          <p:cNvPr id="353" name="Picture 10" descr="Nancy&amp;Boots"/>
          <p:cNvPicPr/>
          <p:nvPr/>
        </p:nvPicPr>
        <p:blipFill>
          <a:blip r:embed="rId3"/>
          <a:stretch/>
        </p:blipFill>
        <p:spPr>
          <a:xfrm>
            <a:off x="4876920" y="1676520"/>
            <a:ext cx="3598920" cy="426708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Picture 6" descr="PersonAtBSC"/>
          <p:cNvPicPr/>
          <p:nvPr/>
        </p:nvPicPr>
        <p:blipFill>
          <a:blip r:embed="rId2"/>
          <a:stretch/>
        </p:blipFill>
        <p:spPr>
          <a:xfrm>
            <a:off x="1447920" y="1523880"/>
            <a:ext cx="6248160" cy="46483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219240" y="-6480"/>
            <a:ext cx="8474040" cy="142092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with dangerous agents that pose a high individual risk of aerosol transmitted laboratory infectious and life threatening diseas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Ebola Zaire viru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Rift valley fever viru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57">
                                            <p:txEl>
                                              <p:pRg st="0" end="0"/>
                                            </p:txEl>
                                          </p:spTgt>
                                        </p:tgtEl>
                                        <p:attrNameLst>
                                          <p:attrName>style.visibility</p:attrName>
                                        </p:attrNameLst>
                                      </p:cBhvr>
                                      <p:to>
                                        <p:strVal val="visible"/>
                                      </p:to>
                                    </p:set>
                                    <p:animEffect filter="diamond(in)" transition="in">
                                      <p:cBhvr additive="repl">
                                        <p:cTn id="377" dur="2000"/>
                                        <p:tgtEl>
                                          <p:spTgt spid="357">
                                            <p:txEl>
                                              <p:pRg st="0" end="0"/>
                                            </p:txEl>
                                          </p:spTgt>
                                        </p:tgtEl>
                                      </p:cBhvr>
                                    </p:animEffect>
                                  </p:childTnLst>
                                </p:cTn>
                              </p:par>
                              <p:par>
                                <p:cTn id="378" nodeType="withEffect" fill="hold" presetClass="entr" presetID="8" presetSubtype="16">
                                  <p:stCondLst>
                                    <p:cond delay="0"/>
                                  </p:stCondLst>
                                  <p:childTnLst>
                                    <p:set>
                                      <p:cBhvr>
                                        <p:cTn id="379" dur="1" fill="hold">
                                          <p:stCondLst>
                                            <p:cond delay="0"/>
                                          </p:stCondLst>
                                        </p:cTn>
                                        <p:tgtEl>
                                          <p:spTgt spid="357">
                                            <p:txEl>
                                              <p:pRg st="1" end="1"/>
                                            </p:txEl>
                                          </p:spTgt>
                                        </p:tgtEl>
                                        <p:attrNameLst>
                                          <p:attrName>style.visibility</p:attrName>
                                        </p:attrNameLst>
                                      </p:cBhvr>
                                      <p:to>
                                        <p:strVal val="visible"/>
                                      </p:to>
                                    </p:set>
                                    <p:animEffect filter="diamond(in)" transition="in">
                                      <p:cBhvr additive="repl">
                                        <p:cTn id="380" dur="2000"/>
                                        <p:tgtEl>
                                          <p:spTgt spid="357">
                                            <p:txEl>
                                              <p:pRg st="1" end="1"/>
                                            </p:txEl>
                                          </p:spTgt>
                                        </p:tgtEl>
                                      </p:cBhvr>
                                    </p:animEffect>
                                  </p:childTnLst>
                                </p:cTn>
                              </p:par>
                              <p:par>
                                <p:cTn id="381" nodeType="withEffect" fill="hold" presetClass="entr" presetID="8" presetSubtype="16">
                                  <p:stCondLst>
                                    <p:cond delay="0"/>
                                  </p:stCondLst>
                                  <p:childTnLst>
                                    <p:set>
                                      <p:cBhvr>
                                        <p:cTn id="382" dur="1" fill="hold">
                                          <p:stCondLst>
                                            <p:cond delay="0"/>
                                          </p:stCondLst>
                                        </p:cTn>
                                        <p:tgtEl>
                                          <p:spTgt spid="357">
                                            <p:txEl>
                                              <p:pRg st="2" end="2"/>
                                            </p:txEl>
                                          </p:spTgt>
                                        </p:tgtEl>
                                        <p:attrNameLst>
                                          <p:attrName>style.visibility</p:attrName>
                                        </p:attrNameLst>
                                      </p:cBhvr>
                                      <p:to>
                                        <p:strVal val="visible"/>
                                      </p:to>
                                    </p:set>
                                    <p:animEffect filter="diamond(in)" transition="in">
                                      <p:cBhvr additive="repl">
                                        <p:cTn id="383"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115920" y="55440"/>
            <a:ext cx="8577360" cy="1359000"/>
          </a:xfrm>
          <a:prstGeom prst="rect">
            <a:avLst/>
          </a:prstGeom>
          <a:ln w="0">
            <a:noFill/>
          </a:ln>
        </p:spPr>
      </p:pic>
      <p:sp>
        <p:nvSpPr>
          <p:cNvPr id="359" name=""/>
          <p:cNvSpPr txBox="1"/>
          <p:nvPr/>
        </p:nvSpPr>
        <p:spPr>
          <a:xfrm>
            <a:off x="457200" y="1774800"/>
            <a:ext cx="8229600" cy="462600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ea typeface="Tahoma"/>
              </a:rPr>
              <a:t> </a:t>
            </a:r>
            <a:r>
              <a:rPr b="0" lang="fa-IR" sz="3200" spc="-1" strike="noStrike">
                <a:solidFill>
                  <a:srgbClr val="000000"/>
                </a:solidFill>
                <a:latin typeface="Arial"/>
                <a:cs typeface="Arial"/>
              </a:rPr>
              <a:t>این سطح برای کار با میکروارگانیسم های ریسک گروه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طراحی شده اند. قبل از ساخت این چنین آزمایشگاهی و شروع عملیات در آن، بایستی با مؤسساتی که تجربه کار با این امکانات را داشته اند مشورت کرد. آزمایشگاه فوق العاده آلوده – سطح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بایستی تحت کنترل مراکز سلامت ملی باشد. </a:t>
            </a:r>
            <a:endParaRPr b="0" lang="en-US" sz="3200" spc="-1" strike="noStrike">
              <a:solidFill>
                <a:srgbClr val="000000"/>
              </a:solidFill>
              <a:latin typeface="Corbel"/>
            </a:endParaRPr>
          </a:p>
        </p:txBody>
      </p:sp>
    </p:spTree>
  </p:cSld>
  <p:transition>
    <p:split dir="in" orient="vert"/>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115920" y="55440"/>
            <a:ext cx="8577360" cy="1359000"/>
          </a:xfrm>
          <a:prstGeom prst="rect">
            <a:avLst/>
          </a:prstGeom>
          <a:ln w="0">
            <a:noFill/>
          </a:ln>
        </p:spPr>
      </p:pic>
      <p:sp>
        <p:nvSpPr>
          <p:cNvPr id="36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 :</a:t>
            </a:r>
            <a:endParaRPr b="0" lang="en-US" sz="32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همانند کد عملیاتی ذکر شده برای ایمنی بیولوژیکی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می باشد به جز موارد اصطلاحی زیر:</a:t>
            </a: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قانون دو نفره باید اجرا شود. بدین وسیله هیچ فردی تنها کار نمی کن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تعویض کامل لباس و کفش ، قبل از ورود و خروج از آزمایشگاه احتیاج است.</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به کارکنان بایستی روش های اورژانسی در مواقع صدمه یا بیماری ، آموزش داده شود.</a:t>
            </a:r>
            <a:endParaRPr b="0" lang="en-US" sz="24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61">
                                            <p:txEl>
                                              <p:pRg st="3" end="3"/>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61">
                                            <p:txEl>
                                              <p:pRg st="4" end="4"/>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1</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ainment- biosafety level 3</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ximum containment- biosafety level 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115920" y="55440"/>
            <a:ext cx="8577360" cy="135900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ویژگیهای ایمنی بیولوژیکی سطح </a:t>
            </a:r>
            <a:r>
              <a:rPr b="1" lang="fa-IR" sz="2000" spc="-1" strike="noStrike">
                <a:solidFill>
                  <a:srgbClr val="000000"/>
                </a:solidFill>
                <a:latin typeface="Arial"/>
                <a:ea typeface="Tahoma"/>
              </a:rPr>
              <a:t>4</a:t>
            </a:r>
            <a:r>
              <a:rPr b="1" lang="fa-IR" sz="2000" spc="-1" strike="noStrike">
                <a:solidFill>
                  <a:srgbClr val="000000"/>
                </a:solidFill>
                <a:latin typeface="Arial"/>
                <a:ea typeface="Tahoma"/>
              </a:rPr>
              <a:t> مانند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است به اضافه موارد زیر:</a:t>
            </a:r>
            <a:endParaRPr b="0" lang="en-US" sz="2000" spc="-1" strike="noStrike">
              <a:solidFill>
                <a:srgbClr val="000000"/>
              </a:solidFill>
              <a:latin typeface="Corbel"/>
            </a:endParaRPr>
          </a:p>
          <a:p>
            <a:pPr marL="609480" indent="-60948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لودگی اولیه : </a:t>
            </a:r>
            <a:r>
              <a:rPr b="0" lang="fa-IR" sz="2000" spc="-1" strike="noStrike">
                <a:solidFill>
                  <a:srgbClr val="000000"/>
                </a:solidFill>
                <a:latin typeface="Corbel"/>
                <a:cs typeface="Tahoma"/>
              </a:rPr>
              <a:t>یک سیستم مؤثر آلودگی اولیه بایستی در مکان حضور داشته باشد که شامل یک یا ترکیبی از موارد زیر می باشد،</a:t>
            </a:r>
            <a:endParaRPr b="0" lang="en-US" sz="2000" spc="-1" strike="noStrike">
              <a:solidFill>
                <a:srgbClr val="000000"/>
              </a:solidFill>
              <a:latin typeface="Corbel"/>
            </a:endParaRPr>
          </a:p>
          <a:p>
            <a:pPr marL="609480" indent="-60948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Arial"/>
                <a:cs typeface="Tahoma"/>
              </a:rPr>
              <a:t>قبل از ورود به اتاق های محتوی کابینت های ایمن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احتیاج به عبور از سراسر حداقل دو درب می باشد. در این آزمایشگاه شکل کابینت ایمن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 آلودگی اولیه را فراهم می کند. یک دوش با اتاق های رختکن داخلی یا خارجی نیاز است. منابع و موادی که از اتاق تعویض به داخل اتاق کابینت آورده نشده اند، بایستی از اتوکلاو دو درب یا اتاق ضدعفونی عبور کنند. </a:t>
            </a:r>
            <a:r>
              <a:rPr b="0" lang="fa-IR" sz="2000" spc="-1" strike="noStrike">
                <a:solidFill>
                  <a:srgbClr val="000000"/>
                </a:solidFill>
                <a:latin typeface="Corbel"/>
                <a:cs typeface="Tahoma"/>
              </a:rPr>
              <a:t>دربهای اتوکلاو و اتاق ضدعفونی دارای قفل داخلی هستند بطوری که درب خارجی باز نمی شود مگر آنکه اتوکلاو و دورۀ استریلزاسیون را انجام داده باشد یا اتاق ضدعفونی گندزدایی شده باشد. </a:t>
            </a:r>
            <a:endParaRPr b="0" lang="en-US" sz="2000" spc="-1" strike="noStrike">
              <a:solidFill>
                <a:srgbClr val="000000"/>
              </a:solidFill>
              <a:latin typeface="Corbel"/>
            </a:endParaRPr>
          </a:p>
        </p:txBody>
      </p:sp>
    </p:spTree>
  </p:cSld>
  <p:transition>
    <p:split dir="in" orient="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128520" y="42840"/>
            <a:ext cx="8564760" cy="1371600"/>
          </a:xfrm>
          <a:prstGeom prst="rect">
            <a:avLst/>
          </a:prstGeom>
          <a:ln w="0">
            <a:noFill/>
          </a:ln>
        </p:spPr>
      </p:pic>
      <p:sp>
        <p:nvSpPr>
          <p:cNvPr id="36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Corbel"/>
                <a:cs typeface="Tahoma"/>
              </a:rPr>
              <a:t>لباس آزمایشگاه:</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لباس حفاظتی آزمایشگاهی که شامل امکانات تنفسی نیز هست بطور قابل ملاحظه ای در طرح و امکانات از آزمایشگاه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 کابینت های حفاظت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تفاوت دارد. اتاقها در آزمایشگاه لباس حفاظتی طوری قرار گرفته اند که فرد قبل از ورود به جایی که مواد عفونت زا قرار گرفته اند بطور مستقیم وارد اتاقهای رختکن غیر آلوده می شوند. یک دوش نیز بایستی وجود داشته باشد که افراد قبل از خروج از نواحی آلوده خود را در آن قسمت پاکسازی کنند. کارکنانی که به منطقه لباسها وارد می شوند نیازمند به لباسهای یک تکه، فشار مثبت،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فیلتر شده و دارای جریان هوای مناسب هستند. هوای داخل لباس توسط یک سیستم که قابلیت تکرار </a:t>
            </a:r>
            <a:r>
              <a:rPr b="0" lang="fa-IR" sz="2000" spc="-1" strike="noStrike">
                <a:solidFill>
                  <a:srgbClr val="000000"/>
                </a:solidFill>
                <a:latin typeface="Arial"/>
                <a:ea typeface="Tahoma"/>
              </a:rPr>
              <a:t>100</a:t>
            </a:r>
            <a:r>
              <a:rPr b="0" lang="fa-IR" sz="2000" spc="-1" strike="noStrike">
                <a:solidFill>
                  <a:srgbClr val="000000"/>
                </a:solidFill>
                <a:latin typeface="Arial"/>
                <a:cs typeface="Tahoma"/>
              </a:rPr>
              <a:t>درصد هوا از طریق یک منبع مستقل را داشته باشد، تأمین می شود، البته در مواقع ضروری. ورود به داخل این آزمایشگاه مستلزم عبور از درب های قفل شده با هوا می باشد.  </a:t>
            </a:r>
            <a:endParaRPr b="0" lang="en-US" sz="2000" spc="-1" strike="noStrike">
              <a:solidFill>
                <a:srgbClr val="000000"/>
              </a:solidFill>
              <a:latin typeface="Corbel"/>
            </a:endParaRPr>
          </a:p>
        </p:txBody>
      </p:sp>
    </p:spTree>
  </p:cSld>
  <p:transition>
    <p:split dir="in" orient="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128520" y="42840"/>
            <a:ext cx="8564760" cy="1371600"/>
          </a:xfrm>
          <a:prstGeom prst="rect">
            <a:avLst/>
          </a:prstGeom>
          <a:ln w="0">
            <a:noFill/>
          </a:ln>
        </p:spPr>
      </p:pic>
      <p:sp>
        <p:nvSpPr>
          <p:cNvPr id="367"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Corbe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دسترسی کنترل شده :</a:t>
            </a:r>
            <a:r>
              <a:rPr b="0" lang="fa-IR" sz="2000" spc="-1" strike="noStrike">
                <a:solidFill>
                  <a:srgbClr val="000000"/>
                </a:solidFill>
                <a:latin typeface="Corbel"/>
                <a:ea typeface="Tahoma"/>
              </a:rPr>
              <a:t>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آزمایشگاه فوق العاده سمی –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یستی در ساختمانی مجزا یا در یک منطقه ضدعفونی شده با سیستم ایمنی قرارگيرد.در هنگام ورود، کارکنان بایستی کاملا لباسها را تعویض کنند و قبل از ترک کردن آزمایشگاه ، می بایست دوش گرفته و بعد لباسهای خیابان را بپشوند. </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سیستم هوای کنترل شده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فشار منفی بایستی در امکانات حفظ شود. هم هوای ذخیره و هم هوای خروجی هر دو باید با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شوند. تفاوت های مهمی در سیستم های تهویه آزمایشگاه کابینت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و آزمایشگاه لباس وجود دارند:</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Corbel"/>
                <a:cs typeface="Tahoma"/>
              </a:rPr>
              <a:t>هوای ذخیره در کابینت ایمنی بیولوژیکی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بعد از عبور از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و افزایش روی کابینت به داخل اتاق کشیده می شوند. هوای خروجی قبل از ترک دربهای خروجی بایستی از دوفیلتر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عبور کند. کابینت ها بایستی در تمام مدت در حوالی آزمایشگاه فشار منفی ایجاد کنند. یک سیستم تهویه بدون گردش اختصاصی برای آزمایشگاه کابینت لازم است. </a:t>
            </a:r>
            <a:endParaRPr b="0" lang="en-US" sz="2000" spc="-1" strike="noStrike">
              <a:solidFill>
                <a:srgbClr val="000000"/>
              </a:solidFill>
              <a:latin typeface="Corbel"/>
            </a:endParaRPr>
          </a:p>
        </p:txBody>
      </p:sp>
    </p:spTree>
  </p:cSld>
  <p:transition>
    <p:split dir="in" orient="vert"/>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67">
                                            <p:txEl>
                                              <p:pRg st="0" end="0"/>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367">
                                            <p:txEl>
                                              <p:pRg st="2" end="2"/>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128520" y="42840"/>
            <a:ext cx="8564760" cy="1371600"/>
          </a:xfrm>
          <a:prstGeom prst="rect">
            <a:avLst/>
          </a:prstGeom>
          <a:ln w="0">
            <a:noFill/>
          </a:ln>
        </p:spPr>
      </p:pic>
      <p:sp>
        <p:nvSpPr>
          <p:cNvPr id="369" name=""/>
          <p:cNvSpPr txBox="1"/>
          <p:nvPr/>
        </p:nvSpPr>
        <p:spPr>
          <a:xfrm>
            <a:off x="304920" y="1676520"/>
            <a:ext cx="8229600" cy="4525920"/>
          </a:xfrm>
          <a:prstGeom prst="rect">
            <a:avLst/>
          </a:prstGeom>
          <a:noFill/>
          <a:ln w="0">
            <a:noFill/>
          </a:ln>
        </p:spPr>
        <p:txBody>
          <a:bodyPr lIns="54720" tIns="91440" anchor="t">
            <a:normAutofit/>
          </a:bodyPr>
          <a:p>
            <a:pPr marL="609480" indent="-609480" algn="r" rtl="1">
              <a:lnSpc>
                <a:spcPct val="80000"/>
              </a:lnSpc>
              <a:buClr>
                <a:srgbClr val="f0ad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آزمایشگاه لباس</a:t>
            </a:r>
            <a:r>
              <a:rPr b="0" lang="fa-IR" sz="2000" spc="-1" strike="noStrike">
                <a:solidFill>
                  <a:srgbClr val="000000"/>
                </a:solidFill>
                <a:latin typeface="Arial"/>
                <a:ea typeface="Arial"/>
              </a:rPr>
              <a:t>: </a:t>
            </a:r>
            <a:r>
              <a:rPr b="0" lang="fa-IR" sz="1800" spc="-1" strike="noStrike">
                <a:solidFill>
                  <a:srgbClr val="000000"/>
                </a:solidFill>
                <a:latin typeface="Arial"/>
                <a:cs typeface="Arial"/>
              </a:rPr>
              <a:t>سیستم های ذخیره و خروج هوا در اتاقهای اختصاص داده شده نیاز است. اجزاء خروج و ذخیرۀ سیستم تهویه متعادل شده تا یک جریان هوای مستقیم در ناحیه لباس فراهم کند از منطقه کم خطر به منطقه بسیار بالقوه خطرناک. تحت هیچ شرایطی نمی بایست هوای خروجی از آزمایشگاه لباس ایمنی بیولوژیکی سطح </a:t>
            </a:r>
            <a:r>
              <a:rPr b="0" lang="fa-IR" sz="1800" spc="-1" strike="noStrike">
                <a:solidFill>
                  <a:srgbClr val="000000"/>
                </a:solidFill>
                <a:latin typeface="Arial"/>
                <a:ea typeface="Arial"/>
              </a:rPr>
              <a:t>4</a:t>
            </a:r>
            <a:r>
              <a:rPr b="0" lang="fa-IR" sz="1800" spc="-1" strike="noStrike">
                <a:solidFill>
                  <a:srgbClr val="000000"/>
                </a:solidFill>
                <a:latin typeface="Arial"/>
                <a:ea typeface="Arial"/>
              </a:rPr>
              <a:t> به مناطق دیگر به گردش درآید. همه فیلترهای </a:t>
            </a:r>
            <a:r>
              <a:rPr b="0" lang="en-US" sz="1800" spc="-1" strike="noStrike">
                <a:solidFill>
                  <a:srgbClr val="000000"/>
                </a:solidFill>
                <a:latin typeface="Arial"/>
                <a:ea typeface="Arial"/>
              </a:rPr>
              <a:t>HEPA</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نیاز به تست و تأیید سالیانه دارند. مکانهایی برای فیلتر </a:t>
            </a:r>
            <a:r>
              <a:rPr b="0" lang="en-US" sz="1800" spc="-1" strike="noStrike">
                <a:solidFill>
                  <a:srgbClr val="000000"/>
                </a:solidFill>
                <a:latin typeface="Arial"/>
                <a:ea typeface="Arial"/>
              </a:rPr>
              <a:t>HEPA</a:t>
            </a:r>
            <a:r>
              <a:rPr b="0" lang="fa-IR" sz="1800" spc="-1" strike="noStrike">
                <a:solidFill>
                  <a:srgbClr val="000000"/>
                </a:solidFill>
                <a:latin typeface="Arial"/>
                <a:ea typeface="Arial"/>
              </a:rPr>
              <a:t> طراحی شده که قبل از دفع آنها را گندزدایی می کنند.</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مواد پخش شده در حین پاکسازی:</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تمامی مواد پخش شده از منطقه لباس، اتاق پاکسازی، دوش یا کابینت کلاس </a:t>
            </a:r>
            <a:r>
              <a:rPr b="0" lang="en-US" sz="1800" spc="-1" strike="noStrike">
                <a:solidFill>
                  <a:srgbClr val="000000"/>
                </a:solidFill>
                <a:latin typeface="Arial"/>
                <a:ea typeface="Arial"/>
              </a:rPr>
              <a:t>III</a:t>
            </a:r>
            <a:r>
              <a:rPr b="0" lang="fa-IR" sz="1800" spc="-1" strike="noStrike">
                <a:solidFill>
                  <a:srgbClr val="000000"/>
                </a:solidFill>
                <a:latin typeface="Arial"/>
                <a:ea typeface="Arial"/>
              </a:rPr>
              <a:t> بایستی قبل از تخلیه نهایی، پاکسازی شوند. روش گرمایی برای این منظور پیشنهاد شده است.</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استریلیزاسیون زباله ها و مواد:</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درب دوبل، عبور از اتوکلاو در آزمایشگاه بایستی قابل دسترس باشد. </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سیستم ورودی </a:t>
            </a:r>
            <a:r>
              <a:rPr b="0" lang="en-US" sz="1800" spc="-1" strike="noStrike">
                <a:solidFill>
                  <a:srgbClr val="000000"/>
                </a:solidFill>
                <a:latin typeface="Arial"/>
                <a:ea typeface="Arial"/>
              </a:rPr>
              <a:t>Air Lock</a:t>
            </a:r>
            <a:r>
              <a:rPr b="0" lang="fa-IR" sz="1800" spc="-1" strike="noStrike">
                <a:solidFill>
                  <a:srgbClr val="000000"/>
                </a:solidFill>
                <a:latin typeface="Arial"/>
                <a:ea typeface="Arial"/>
              </a:rPr>
              <a:t> برای نمونه ها، مواد و حیوانات بایستی فراهم شود. </a:t>
            </a: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به علت پیچیدگی زیاد در مهندسی، طراحی و ساخت امکانات ایمنی بیولوژیکی سطح </a:t>
            </a:r>
            <a:r>
              <a:rPr b="1" lang="fa-IR" sz="2000" spc="-1" strike="noStrike">
                <a:solidFill>
                  <a:srgbClr val="000000"/>
                </a:solidFill>
                <a:latin typeface="Arial"/>
                <a:ea typeface="Arial"/>
              </a:rPr>
              <a:t>4</a:t>
            </a:r>
            <a:r>
              <a:rPr b="1" lang="fa-IR" sz="2000" spc="-1" strike="noStrike">
                <a:solidFill>
                  <a:srgbClr val="000000"/>
                </a:solidFill>
                <a:latin typeface="Arial"/>
                <a:cs typeface="Arial"/>
              </a:rPr>
              <a:t>،  هم در شکل کابینت و هم لباس ، نمایش الگو وار این چنین امکاناتی ایجاد نشده است.</a:t>
            </a:r>
            <a:r>
              <a:rPr b="0" lang="fa-IR" sz="2000" spc="-1" strike="noStrike">
                <a:solidFill>
                  <a:srgbClr val="000000"/>
                </a:solidFill>
                <a:latin typeface="Arial"/>
                <a:ea typeface="Arial"/>
              </a:rPr>
              <a:t> </a:t>
            </a:r>
            <a:endParaRPr b="0" lang="en-US" sz="2000" spc="-1" strike="noStrike">
              <a:solidFill>
                <a:srgbClr val="000000"/>
              </a:solidFill>
              <a:latin typeface="Corbel"/>
            </a:endParaRPr>
          </a:p>
        </p:txBody>
      </p:sp>
    </p:spTree>
  </p:cSld>
  <p:transition>
    <p:split dir="in" orient="vert"/>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9">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9">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9">
                                            <p:txEl>
                                              <p:pRg st="4" end="4"/>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3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 descr="untitled0.bmp"/>
          <p:cNvPicPr/>
          <p:nvPr/>
        </p:nvPicPr>
        <p:blipFill>
          <a:blip r:embed="rId1"/>
          <a:stretch/>
        </p:blipFill>
        <p:spPr>
          <a:xfrm>
            <a:off x="171360" y="552600"/>
            <a:ext cx="8801280" cy="5752800"/>
          </a:xfrm>
          <a:prstGeom prst="rect">
            <a:avLst/>
          </a:prstGeom>
          <a:ln w="0">
            <a:noFill/>
          </a:ln>
        </p:spPr>
      </p:pic>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 descr="untitled1.bmp"/>
          <p:cNvPicPr/>
          <p:nvPr/>
        </p:nvPicPr>
        <p:blipFill>
          <a:blip r:embed="rId1"/>
          <a:srcRect l="0" t="0" r="0" b="4350"/>
          <a:stretch/>
        </p:blipFill>
        <p:spPr>
          <a:xfrm>
            <a:off x="762120" y="914400"/>
            <a:ext cx="7657920" cy="5029200"/>
          </a:xfrm>
          <a:prstGeom prst="rect">
            <a:avLst/>
          </a:prstGeom>
          <a:ln w="0">
            <a:noFill/>
          </a:ln>
        </p:spPr>
      </p:pic>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82520" y="152280"/>
            <a:ext cx="8510760" cy="1262160"/>
          </a:xfrm>
          <a:prstGeom prst="rect">
            <a:avLst/>
          </a:prstGeom>
          <a:ln w="0">
            <a:noFill/>
          </a:ln>
        </p:spPr>
      </p:pic>
      <p:sp>
        <p:nvSpPr>
          <p:cNvPr id="37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Arial"/>
              </a:rPr>
              <a:t>این کابینت ها به منظور حفاظت از اپراتور، محیط آزمایشگاه و مواد کاری در مواجهه با پاششها و آئرسولهای عفونت زا طراحی شده است.</a:t>
            </a:r>
            <a:r>
              <a:rPr b="0" lang="en-US" sz="2000" spc="-1" strike="noStrike">
                <a:solidFill>
                  <a:srgbClr val="000000"/>
                </a:solidFill>
                <a:latin typeface="Arial"/>
                <a:ea typeface="Arial"/>
              </a:rPr>
              <a:t> </a:t>
            </a:r>
            <a:r>
              <a:rPr b="0" lang="fa-IR" sz="2000" spc="-1" strike="noStrike">
                <a:solidFill>
                  <a:srgbClr val="000000"/>
                </a:solidFill>
                <a:latin typeface="Arial"/>
                <a:cs typeface="Arial"/>
              </a:rPr>
              <a:t>ذرات آئرسول کوچکتر از </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و قطرات بین </a:t>
            </a:r>
            <a:r>
              <a:rPr b="0" lang="fa-IR" sz="2000" spc="-1" strike="noStrike">
                <a:solidFill>
                  <a:srgbClr val="000000"/>
                </a:solidFill>
                <a:latin typeface="Arial"/>
                <a:ea typeface="Arial"/>
              </a:rPr>
              <a:t>100</a:t>
            </a:r>
            <a:r>
              <a:rPr b="0" lang="fa-IR" sz="2000" spc="-1" strike="noStrike">
                <a:solidFill>
                  <a:srgbClr val="000000"/>
                </a:solidFill>
                <a:latin typeface="Arial"/>
                <a:ea typeface="Arial"/>
              </a:rPr>
              <a:t>-</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با چشم غیر مصلح قابل رؤیت نیستند. به همین دلیل کارکنان آزمایشگاه متوجه تولید این ذرات یا استنشاق آنها نمی شوند. اگر کابینت های حفاظتی بیولوژیکی بدرستی کار کنند، نشان خواهند داد که تأثیر چشم گیری در کاهش تولید و پخش این مواد عفونت زا دار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مهم ترین تغییر، افزودن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به سیستم خروجی بود. این فیلتر </a:t>
            </a:r>
            <a:r>
              <a:rPr b="0" lang="fa-IR" sz="2000" spc="-1" strike="noStrike">
                <a:solidFill>
                  <a:srgbClr val="000000"/>
                </a:solidFill>
                <a:latin typeface="Arial"/>
                <a:ea typeface="Arial"/>
              </a:rPr>
              <a:t>97/99</a:t>
            </a:r>
            <a:r>
              <a:rPr b="0" lang="fa-IR" sz="2000" spc="-1" strike="noStrike">
                <a:solidFill>
                  <a:srgbClr val="000000"/>
                </a:solidFill>
                <a:latin typeface="Arial"/>
                <a:ea typeface="Arial"/>
              </a:rPr>
              <a:t> درصد از ذرات </a:t>
            </a:r>
            <a:r>
              <a:rPr b="0" lang="fa-IR" sz="2000" spc="-1" strike="noStrike">
                <a:solidFill>
                  <a:srgbClr val="000000"/>
                </a:solidFill>
                <a:latin typeface="Arial"/>
                <a:ea typeface="Arial"/>
              </a:rPr>
              <a:t>3/0</a:t>
            </a:r>
            <a:r>
              <a:rPr b="0" lang="fa-IR" sz="2000" spc="-1" strike="noStrike">
                <a:solidFill>
                  <a:srgbClr val="000000"/>
                </a:solidFill>
                <a:latin typeface="Arial"/>
                <a:ea typeface="Arial"/>
              </a:rPr>
              <a:t> میکرومتر و </a:t>
            </a:r>
            <a:r>
              <a:rPr b="0" lang="fa-IR" sz="2000" spc="-1" strike="noStrike">
                <a:solidFill>
                  <a:srgbClr val="000000"/>
                </a:solidFill>
                <a:latin typeface="Arial"/>
                <a:ea typeface="Arial"/>
              </a:rPr>
              <a:t>99/99</a:t>
            </a:r>
            <a:r>
              <a:rPr b="0" lang="fa-IR" sz="2000" spc="-1" strike="noStrike">
                <a:solidFill>
                  <a:srgbClr val="000000"/>
                </a:solidFill>
                <a:latin typeface="Arial"/>
                <a:ea typeface="Arial"/>
              </a:rPr>
              <a:t> درصد از ذرات بزگتر یا کوچکتر از این اندازه را به دام می انداز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دومین اصلاح، هدایت مستقیم هوای فیلتر شده با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روی سطح کار بود که حفاظت مواد روی سطح را از آلودگی فراهم می کرد. بدین منظور سه نوع از این کابینت های ایجاد شد.</a:t>
            </a:r>
            <a:endParaRPr b="0" lang="en-US" sz="2000" spc="-1" strike="noStrike">
              <a:solidFill>
                <a:srgbClr val="000000"/>
              </a:solidFill>
              <a:latin typeface="Corbel"/>
            </a:endParaRPr>
          </a:p>
        </p:txBody>
      </p:sp>
    </p:spTree>
  </p:cSld>
  <p:transition>
    <p:split dir="in" orient="vert"/>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195120" y="152280"/>
            <a:ext cx="8498160" cy="1262160"/>
          </a:xfrm>
          <a:prstGeom prst="rect">
            <a:avLst/>
          </a:prstGeom>
          <a:ln w="0">
            <a:noFill/>
          </a:ln>
        </p:spPr>
      </p:pic>
      <p:sp>
        <p:nvSpPr>
          <p:cNvPr id="37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وای اتاق از قسمت باز جلویی با حداقل سرعت </a:t>
            </a:r>
            <a:r>
              <a:rPr b="0" lang="fa-IR" sz="2000" spc="-1" strike="noStrike">
                <a:solidFill>
                  <a:srgbClr val="000000"/>
                </a:solidFill>
                <a:latin typeface="Arial"/>
                <a:ea typeface="Tahoma"/>
              </a:rPr>
              <a:t>38/0</a:t>
            </a:r>
            <a:r>
              <a:rPr b="0" lang="fa-IR" sz="2000" spc="-1" strike="noStrike">
                <a:solidFill>
                  <a:srgbClr val="000000"/>
                </a:solidFill>
                <a:latin typeface="Arial"/>
                <a:ea typeface="Tahoma"/>
              </a:rPr>
              <a:t> متر بر ثانیه به داخل محفظه کشیده شده و از روی سطح کار عبور کرده و از کانال خروجی کابینت تخلیه می شود.</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قسمت باز جلوی کابینت اجازۀ ورود دست های اپراتور را به داخل سطح کار میدهد و از پنجره شیشه ای موجود، او می تواند تمام مراحل را رویت ک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هوای خروجی فیلتر شده یا </a:t>
            </a:r>
            <a:r>
              <a:rPr b="0" lang="fa-IR" sz="2000" spc="-1" strike="noStrike">
                <a:solidFill>
                  <a:srgbClr val="000000"/>
                </a:solidFill>
                <a:latin typeface="Arial"/>
                <a:ea typeface="Tahoma"/>
              </a:rPr>
              <a:t>1</a:t>
            </a:r>
            <a:r>
              <a:rPr b="0" lang="fa-IR" sz="2000" spc="-1" strike="noStrike">
                <a:solidFill>
                  <a:srgbClr val="000000"/>
                </a:solidFill>
                <a:latin typeface="Arial"/>
                <a:ea typeface="Tahoma"/>
              </a:rPr>
              <a:t>) وارد محیط آزمایشگاه و بعد از طریق دودکش به خارج ساختمان می شود </a:t>
            </a:r>
            <a:r>
              <a:rPr b="0" lang="fa-IR" sz="2000" spc="-1" strike="noStrike">
                <a:solidFill>
                  <a:srgbClr val="000000"/>
                </a:solidFill>
                <a:latin typeface="Arial"/>
                <a:ea typeface="Tahoma"/>
              </a:rPr>
              <a:t>2</a:t>
            </a:r>
            <a:r>
              <a:rPr b="0" lang="fa-IR" sz="2000" spc="-1" strike="noStrike">
                <a:solidFill>
                  <a:srgbClr val="000000"/>
                </a:solidFill>
                <a:latin typeface="Arial"/>
                <a:ea typeface="Tahoma"/>
              </a:rPr>
              <a:t>) یا از طریق دودکش از ساختمان خارج میشود </a:t>
            </a:r>
            <a:r>
              <a:rPr b="0" lang="fa-IR" sz="2000" spc="-1" strike="noStrike">
                <a:solidFill>
                  <a:srgbClr val="000000"/>
                </a:solidFill>
                <a:latin typeface="Arial"/>
                <a:ea typeface="Tahoma"/>
              </a:rPr>
              <a:t>3</a:t>
            </a:r>
            <a:r>
              <a:rPr b="0" lang="fa-IR" sz="2000" spc="-1" strike="noStrike">
                <a:solidFill>
                  <a:srgbClr val="000000"/>
                </a:solidFill>
                <a:latin typeface="Arial"/>
                <a:ea typeface="Tahoma"/>
              </a:rPr>
              <a:t>) یا مستقیما به خارج از ساختمان هدایت می شود.</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این سیستم می تواند کارکنان و محیط را هنگام کار با رادیو نوکلئوئیدها و مواد شیمیایی سمی فرار حفاظت کند. به علت مکش هوای غیر استریل روی سطح کار از قسمت باز محفظه، این سیستم بطور کامل نمی تواند حفاظت را تأمین کند. </a:t>
            </a:r>
            <a:endParaRPr b="0" lang="en-US" sz="2400" spc="-1" strike="noStrike">
              <a:solidFill>
                <a:srgbClr val="000000"/>
              </a:solidFill>
              <a:latin typeface="Corbel"/>
            </a:endParaRPr>
          </a:p>
        </p:txBody>
      </p:sp>
    </p:spTree>
  </p:cSld>
  <p:transition>
    <p:split dir="in" orient="vert"/>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3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195120" y="152280"/>
            <a:ext cx="8498160" cy="1262160"/>
          </a:xfrm>
          <a:prstGeom prst="rect">
            <a:avLst/>
          </a:prstGeom>
          <a:ln w="0">
            <a:noFill/>
          </a:ln>
        </p:spPr>
      </p:pic>
      <p:sp>
        <p:nvSpPr>
          <p:cNvPr id="377"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استفاده از سلول و کشت بافت برای تکثیر ویروس ها و دیگر مقاصد</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کار با عوامل عفونت زا در ریسک گروه های </a:t>
            </a:r>
            <a:r>
              <a:rPr b="1" lang="fa-IR" sz="2800" spc="-1" strike="noStrike">
                <a:solidFill>
                  <a:srgbClr val="000000"/>
                </a:solidFill>
                <a:latin typeface="Arial"/>
                <a:ea typeface="Tahoma"/>
              </a:rPr>
              <a:t>2</a:t>
            </a:r>
            <a:r>
              <a:rPr b="1" lang="fa-IR" sz="2800" spc="-1" strike="noStrike">
                <a:solidFill>
                  <a:srgbClr val="000000"/>
                </a:solidFill>
                <a:latin typeface="Arial"/>
                <a:cs typeface="Tahoma"/>
              </a:rPr>
              <a:t>و</a:t>
            </a:r>
            <a:r>
              <a:rPr b="1" lang="fa-IR" sz="2800" spc="-1" strike="noStrike">
                <a:solidFill>
                  <a:srgbClr val="000000"/>
                </a:solidFill>
                <a:latin typeface="Arial"/>
                <a:ea typeface="Tahoma"/>
              </a:rPr>
              <a:t>3</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Tahoma"/>
              </a:rPr>
              <a:t> این کلاس دارای چهار نوع </a:t>
            </a:r>
            <a:r>
              <a:rPr b="1" lang="en-US" sz="2800" spc="-1" strike="noStrike">
                <a:solidFill>
                  <a:srgbClr val="000000"/>
                </a:solidFill>
                <a:latin typeface="Arial"/>
                <a:ea typeface="Arial"/>
              </a:rPr>
              <a:t>A1,A2,B1,B2</a:t>
            </a:r>
            <a:r>
              <a:rPr b="1" lang="en-US" sz="2800" spc="-1" strike="noStrike">
                <a:solidFill>
                  <a:srgbClr val="000000"/>
                </a:solidFill>
                <a:latin typeface="Arial"/>
                <a:ea typeface="Arial"/>
              </a:rPr>
              <a:t> </a:t>
            </a:r>
            <a:r>
              <a:rPr b="1" lang="fa-IR" sz="2800" spc="-1" strike="noStrike">
                <a:solidFill>
                  <a:srgbClr val="000000"/>
                </a:solidFill>
                <a:latin typeface="Arial"/>
                <a:ea typeface="Tahoma"/>
              </a:rPr>
              <a:t> است.</a:t>
            </a:r>
            <a:endParaRPr b="0" lang="en-US" sz="2800" spc="-1" strike="noStrike">
              <a:solidFill>
                <a:srgbClr val="000000"/>
              </a:solidFill>
              <a:latin typeface="Corbel"/>
            </a:endParaRPr>
          </a:p>
        </p:txBody>
      </p:sp>
    </p:spTree>
  </p:cSld>
  <p:transition>
    <p:split dir="in" orient="vert"/>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195120" y="152280"/>
            <a:ext cx="849816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یک هواکش داخلی باعث مکش هوای اتاق به داخل کابینت از سراسر قسمت باز جلویی و به داخل شبکه های ورودی می شو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این هوا قبل از جریان به سمت پایین به سوی سطح کار، ابتدا از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گذر می کن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نگام پائین رفتن جریان به سمت سطح کار، این جریان به دو نیم تقسیم می شود، یک نیمه از جریان هوا از شبکه خروجی جلویی عبور می کند و نیمی دیگر از شبکه خروجی عقبی می گذر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سپس هوا از پلنوم عقبی که در فضای بین منبع و فیلترهای خروجی در بالای کابینت قرار گرفته، تخلیه می شو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وای خروجی حاصل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A1</a:t>
            </a:r>
            <a:r>
              <a:rPr b="0" lang="fa-IR" sz="2000" spc="-1" strike="noStrike">
                <a:solidFill>
                  <a:srgbClr val="000000"/>
                </a:solidFill>
                <a:latin typeface="Corbel"/>
                <a:ea typeface="Tahoma"/>
              </a:rPr>
              <a:t> می تواند داخل اتاق به گردش درآید یا به خارج از ساختمان از طریق یک اتصال انگشتانه ای به کانال تخلیه شود یا از طریق سیستم خروجی ساختمان خارج شود.</a:t>
            </a:r>
            <a:r>
              <a:rPr b="0" lang="en-US" sz="2000" spc="-1" strike="noStrike">
                <a:solidFill>
                  <a:srgbClr val="000000"/>
                </a:solidFill>
                <a:latin typeface="Corbel"/>
              </a:rPr>
              <a:t> </a:t>
            </a:r>
            <a:endParaRPr b="0" lang="en-US" sz="2000" spc="-1" strike="noStrike">
              <a:solidFill>
                <a:srgbClr val="000000"/>
              </a:solidFill>
              <a:latin typeface="Corbel"/>
            </a:endParaRPr>
          </a:p>
        </p:txBody>
      </p:sp>
    </p:spTree>
  </p:cSld>
  <p:transition>
    <p:split dir="in" orient="ver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79">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324000" y="-6480"/>
            <a:ext cx="8369280" cy="142092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involving agents not known to cause disease in healthy humans and of minimal potential hazard to laboratory personnel and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Bacillus Subtilis</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 .coli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29" dur="2000"/>
                                        <p:tgtEl>
                                          <p:spTgt spid="310">
                                            <p:txEl>
                                              <p:pRg st="0" end="0"/>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310">
                                            <p:txEl>
                                              <p:pRg st="1" end="1"/>
                                            </p:txEl>
                                          </p:spTgt>
                                        </p:tgtEl>
                                        <p:attrNameLst>
                                          <p:attrName>style.visibility</p:attrName>
                                        </p:attrNameLst>
                                      </p:cBhvr>
                                      <p:to>
                                        <p:strVal val="visible"/>
                                      </p:to>
                                    </p:set>
                                    <p:animEffect filter="diamond(in)" transition="in">
                                      <p:cBhvr additive="repl">
                                        <p:cTn id="32" dur="2000"/>
                                        <p:tgtEl>
                                          <p:spTgt spid="310">
                                            <p:txEl>
                                              <p:pRg st="1" end="1"/>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35" dur="20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122400" y="55440"/>
            <a:ext cx="8570880" cy="1359000"/>
          </a:xfrm>
          <a:prstGeom prst="rect">
            <a:avLst/>
          </a:prstGeom>
          <a:ln w="0">
            <a:noFill/>
          </a:ln>
        </p:spPr>
      </p:pic>
      <p:sp>
        <p:nvSpPr>
          <p:cNvPr id="38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نوع </a:t>
            </a:r>
            <a:r>
              <a:rPr b="0" lang="en-US" sz="2400" spc="-1" strike="noStrike">
                <a:solidFill>
                  <a:srgbClr val="000000"/>
                </a:solidFill>
                <a:latin typeface="Corbel"/>
                <a:ea typeface="Arial"/>
              </a:rPr>
              <a:t>A2</a:t>
            </a:r>
            <a:r>
              <a:rPr b="0" lang="fa-IR" sz="2400" spc="-1" strike="noStrike">
                <a:solidFill>
                  <a:srgbClr val="000000"/>
                </a:solidFill>
                <a:latin typeface="Corbel"/>
                <a:ea typeface="Tahoma"/>
              </a:rPr>
              <a:t> دارای تهویه خارج ساختمان است ولی نوع </a:t>
            </a:r>
            <a:r>
              <a:rPr b="0" lang="en-US" sz="2400" spc="-1" strike="noStrike">
                <a:solidFill>
                  <a:srgbClr val="000000"/>
                </a:solidFill>
                <a:latin typeface="Corbel"/>
                <a:ea typeface="Arial"/>
              </a:rPr>
              <a:t>B1</a:t>
            </a:r>
            <a:r>
              <a:rPr b="0" lang="fa-IR" sz="2400" spc="-1" strike="noStrike">
                <a:solidFill>
                  <a:srgbClr val="000000"/>
                </a:solidFill>
                <a:latin typeface="Corbel"/>
                <a:ea typeface="Tahoma"/>
              </a:rPr>
              <a:t> و </a:t>
            </a:r>
            <a:r>
              <a:rPr b="0" lang="en-US" sz="2400" spc="-1" strike="noStrike">
                <a:solidFill>
                  <a:srgbClr val="000000"/>
                </a:solidFill>
                <a:latin typeface="Corbel"/>
                <a:ea typeface="Arial"/>
              </a:rPr>
              <a:t>B2</a:t>
            </a:r>
            <a:r>
              <a:rPr b="0" lang="fa-IR" sz="2400" spc="-1" strike="noStrike">
                <a:solidFill>
                  <a:srgbClr val="000000"/>
                </a:solidFill>
                <a:latin typeface="Corbel"/>
                <a:ea typeface="Tahoma"/>
              </a:rPr>
              <a:t> با نوع </a:t>
            </a:r>
            <a:r>
              <a:rPr b="0" lang="en-US" sz="2400" spc="-1" strike="noStrike">
                <a:solidFill>
                  <a:srgbClr val="000000"/>
                </a:solidFill>
                <a:latin typeface="Corbel"/>
                <a:ea typeface="Arial"/>
              </a:rPr>
              <a:t>A1</a:t>
            </a:r>
            <a:r>
              <a:rPr b="0" lang="fa-IR" sz="2400" spc="-1" strike="noStrike">
                <a:solidFill>
                  <a:srgbClr val="000000"/>
                </a:solidFill>
                <a:latin typeface="Corbel"/>
                <a:ea typeface="Tahoma"/>
              </a:rPr>
              <a:t> تفاوت دارند. این نوع از </a:t>
            </a:r>
            <a:r>
              <a:rPr b="0" lang="en-US" sz="2400" spc="-1" strike="noStrike">
                <a:solidFill>
                  <a:srgbClr val="000000"/>
                </a:solidFill>
                <a:latin typeface="Corbel"/>
                <a:ea typeface="Arial"/>
              </a:rPr>
              <a:t>BSC</a:t>
            </a:r>
            <a:r>
              <a:rPr b="0" lang="fa-IR" sz="2400" spc="-1" strike="noStrike">
                <a:solidFill>
                  <a:srgbClr val="000000"/>
                </a:solidFill>
                <a:latin typeface="Corbel"/>
                <a:ea typeface="Tahoma"/>
              </a:rPr>
              <a:t> دارای تفاوت هایی از چندین جنبه هستند: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رعت هوای ورودی در سرتاسر مدخل ورودی</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مقدار هوای به گردش درآمده روی سطح کار و خروج از محفظه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یستم خروجی تعیین کننده این است که هوا از محفظه به اتاق وارد شود یا به بیرون از طریق سیستم خروجی اختصاصی یا از طریق خروجی ساختمان و تنظیمات فشار.</a:t>
            </a:r>
            <a:r>
              <a:rPr b="0" lang="en-US" sz="2400" spc="-1" strike="noStrike">
                <a:solidFill>
                  <a:srgbClr val="000000"/>
                </a:solidFill>
                <a:latin typeface="Corbel"/>
              </a:rPr>
              <a:t> </a:t>
            </a:r>
            <a:endParaRPr b="0" lang="en-US" sz="2400" spc="-1" strike="noStrike">
              <a:solidFill>
                <a:srgbClr val="000000"/>
              </a:solidFill>
              <a:latin typeface="Corbel"/>
            </a:endParaRPr>
          </a:p>
        </p:txBody>
      </p:sp>
    </p:spTree>
  </p:cSld>
  <p:transition>
    <p:split dir="in" orient="vert"/>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195120" y="152280"/>
            <a:ext cx="8498160" cy="1262160"/>
          </a:xfrm>
          <a:prstGeom prst="rect">
            <a:avLst/>
          </a:prstGeom>
          <a:ln w="0">
            <a:noFill/>
          </a:ln>
        </p:spPr>
      </p:pic>
      <p:sp>
        <p:nvSpPr>
          <p:cNvPr id="38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این نوع بالاترین سطح حفاظت کارکنان را فراهم می کند و برای عوامل ریسک گروه </a:t>
            </a:r>
            <a:r>
              <a:rPr b="0" lang="fa-IR" sz="2400" spc="-1" strike="noStrike">
                <a:solidFill>
                  <a:srgbClr val="000000"/>
                </a:solidFill>
                <a:latin typeface="Arial"/>
                <a:ea typeface="Tahoma"/>
              </a:rPr>
              <a:t>4</a:t>
            </a:r>
            <a:r>
              <a:rPr b="0" lang="fa-IR" sz="2400" spc="-1" strike="noStrike">
                <a:solidFill>
                  <a:srgbClr val="000000"/>
                </a:solidFill>
                <a:latin typeface="Arial"/>
                <a:ea typeface="Tahoma"/>
              </a:rPr>
              <a:t> استفاده می شو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هوای ذخیره فیلتر شده و هوای خروجی از دو فیلتر هپا عبور می کن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جریان هوا از طریق سیستم خروجی اختصاصی که بیرون از کابینت است، حفظ می شود که هوای داخلی کابینت را تحت فشار منفی نگه می دار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دسترسی به سطح کار توسط دستکش های لاستیکی سنگین که مدخل کابینت متصل است، امکان پذیر است .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کابینت کلاس </a:t>
            </a:r>
            <a:r>
              <a:rPr b="0" lang="en-US" sz="2400" spc="-1" strike="noStrike">
                <a:solidFill>
                  <a:srgbClr val="000000"/>
                </a:solidFill>
                <a:latin typeface="Arial"/>
                <a:ea typeface="Arial"/>
              </a:rPr>
              <a:t>III</a:t>
            </a:r>
            <a:r>
              <a:rPr b="0" lang="fa-IR" sz="2400" spc="-1" strike="noStrike">
                <a:solidFill>
                  <a:srgbClr val="000000"/>
                </a:solidFill>
                <a:latin typeface="Arial"/>
                <a:ea typeface="Tahoma"/>
              </a:rPr>
              <a:t> ممکن است به اتوکلاو دو درب نیز متصل باشد که منجر به پاکسازی تمام مواد ورودی یا خروجی کابینت می شو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کلاس </a:t>
            </a:r>
            <a:r>
              <a:rPr b="0" lang="en-US" sz="2400" spc="-1" strike="noStrike">
                <a:solidFill>
                  <a:srgbClr val="000000"/>
                </a:solidFill>
                <a:latin typeface="Corbel"/>
                <a:ea typeface="Arial"/>
              </a:rPr>
              <a:t>III</a:t>
            </a:r>
            <a:r>
              <a:rPr b="0" lang="fa-IR" sz="2400" spc="-1" strike="noStrike">
                <a:solidFill>
                  <a:srgbClr val="000000"/>
                </a:solidFill>
                <a:latin typeface="Corbel"/>
                <a:ea typeface="Tahoma"/>
              </a:rPr>
              <a:t> برای کار در آزمایشگاه هایی با سطح </a:t>
            </a:r>
            <a:r>
              <a:rPr b="0" lang="fa-IR" sz="2400" spc="-1" strike="noStrike">
                <a:solidFill>
                  <a:srgbClr val="000000"/>
                </a:solidFill>
                <a:latin typeface="Corbel"/>
                <a:ea typeface="Tahoma"/>
              </a:rPr>
              <a:t>3</a:t>
            </a:r>
            <a:r>
              <a:rPr b="0" lang="fa-IR" sz="2400" spc="-1" strike="noStrike">
                <a:solidFill>
                  <a:srgbClr val="000000"/>
                </a:solidFill>
                <a:latin typeface="Corbel"/>
                <a:cs typeface="Tahoma"/>
              </a:rPr>
              <a:t>و</a:t>
            </a:r>
            <a:r>
              <a:rPr b="0" lang="fa-IR" sz="2400" spc="-1" strike="noStrike">
                <a:solidFill>
                  <a:srgbClr val="000000"/>
                </a:solidFill>
                <a:latin typeface="Corbel"/>
                <a:ea typeface="Tahoma"/>
              </a:rPr>
              <a:t>4</a:t>
            </a:r>
            <a:r>
              <a:rPr b="0" lang="fa-IR" sz="2400" spc="-1" strike="noStrike">
                <a:solidFill>
                  <a:srgbClr val="000000"/>
                </a:solidFill>
                <a:latin typeface="Corbel"/>
                <a:ea typeface="Tahoma"/>
              </a:rPr>
              <a:t> ایمنی بیولوژیکی مناسب است. </a:t>
            </a:r>
            <a:endParaRPr b="0" lang="en-US" sz="2400" spc="-1" strike="noStrike">
              <a:solidFill>
                <a:srgbClr val="000000"/>
              </a:solidFill>
              <a:latin typeface="Corbel"/>
            </a:endParaRPr>
          </a:p>
        </p:txBody>
      </p:sp>
    </p:spTree>
  </p:cSld>
  <p:transition>
    <p:split dir="in" orient="vert"/>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83">
                                            <p:txEl>
                                              <p:pRg st="1" end="1"/>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383">
                                            <p:txEl>
                                              <p:pRg st="2" end="2"/>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383">
                                            <p:txEl>
                                              <p:pRg st="3" end="3"/>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83">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182520" y="152280"/>
            <a:ext cx="851076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BSC</a:t>
            </a:r>
            <a:r>
              <a:rPr b="1" lang="fa-IR" sz="2800" spc="-1" strike="noStrike">
                <a:solidFill>
                  <a:srgbClr val="000000"/>
                </a:solidFill>
                <a:latin typeface="Corbel"/>
                <a:ea typeface="Tahoma"/>
              </a:rPr>
              <a:t> </a:t>
            </a:r>
            <a:r>
              <a:rPr b="1" lang="fa-IR" sz="2400" spc="-1" strike="noStrike">
                <a:solidFill>
                  <a:srgbClr val="000000"/>
                </a:solidFill>
                <a:latin typeface="Corbel"/>
                <a:cs typeface="Tahoma"/>
              </a:rPr>
              <a:t>برطبق نوع حفاظت مورد نیاز انتخاب می شود: </a:t>
            </a:r>
            <a:endParaRPr b="0" lang="en-US" sz="24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حفاظت محصول</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یکروارگانیسم های ریسک گروه </a:t>
            </a: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a:t>
            </a:r>
            <a:r>
              <a:rPr b="0" lang="fa-IR" sz="2000" spc="-1" strike="noStrike">
                <a:solidFill>
                  <a:srgbClr val="000000"/>
                </a:solidFill>
                <a:latin typeface="Corbel"/>
                <a:ea typeface="Tahoma"/>
              </a:rPr>
              <a:t>4</a:t>
            </a:r>
            <a:r>
              <a:rPr b="0" lang="fa-IR" sz="2000" spc="-1" strike="noStrike">
                <a:solidFill>
                  <a:srgbClr val="000000"/>
                </a:solidFill>
                <a:latin typeface="Corbel"/>
                <a:ea typeface="Tahoma"/>
              </a:rPr>
              <a:t> </a:t>
            </a:r>
            <a:r>
              <a:rPr b="0" lang="en-US" sz="2000" spc="-1" strike="noStrike">
                <a:solidFill>
                  <a:srgbClr val="000000"/>
                </a:solidFill>
                <a:latin typeface="Corbel"/>
              </a:rPr>
              <a:t> </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واجهه با رادیو نوکلئوییدها و مواد شیمیایی سمی فرار یا ترکیبی از این موا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a:t>
            </a:r>
            <a:r>
              <a:rPr b="0" lang="fa-IR" sz="2000" spc="-1" strike="noStrike">
                <a:solidFill>
                  <a:srgbClr val="000000"/>
                </a:solidFill>
                <a:latin typeface="Corbel"/>
                <a:ea typeface="Tahoma"/>
              </a:rPr>
              <a:t> كه به سیستم های خروجی ساختمان کانال کشی نشدند یا کابینت های کلاس</a:t>
            </a:r>
            <a:r>
              <a:rPr b="0" lang="en-US" sz="2000" spc="-1" strike="noStrike">
                <a:solidFill>
                  <a:srgbClr val="000000"/>
                </a:solidFill>
                <a:latin typeface="Corbel"/>
                <a:ea typeface="Arial"/>
              </a:rPr>
              <a:t>II A1 ,A2</a:t>
            </a:r>
            <a:r>
              <a:rPr b="0" lang="en-US" sz="2000" spc="-1" strike="noStrike">
                <a:solidFill>
                  <a:srgbClr val="000000"/>
                </a:solidFill>
                <a:latin typeface="Corbel"/>
                <a:ea typeface="Arial"/>
              </a:rPr>
              <a:t> </a:t>
            </a:r>
            <a:r>
              <a:rPr b="0" lang="fa-IR" sz="2000" spc="-1" strike="noStrike">
                <a:solidFill>
                  <a:srgbClr val="000000"/>
                </a:solidFill>
                <a:latin typeface="Corbel"/>
                <a:ea typeface="Tahoma"/>
              </a:rPr>
              <a:t> براي مواد شیمیایی سمی یا فرار نباید</a:t>
            </a:r>
            <a:r>
              <a:rPr b="0" lang="en-US" sz="2000" spc="-1" strike="noStrike">
                <a:solidFill>
                  <a:srgbClr val="000000"/>
                </a:solidFill>
                <a:latin typeface="Corbel"/>
              </a:rPr>
              <a:t> </a:t>
            </a:r>
            <a:r>
              <a:rPr b="0" lang="fa-IR" sz="2000" spc="-1" strike="noStrike">
                <a:solidFill>
                  <a:srgbClr val="000000"/>
                </a:solidFill>
                <a:latin typeface="Corbel"/>
                <a:ea typeface="Tahoma"/>
              </a:rPr>
              <a:t> استفاده شون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I B1</a:t>
            </a:r>
            <a:r>
              <a:rPr b="0" lang="fa-IR" sz="2000" spc="-1" strike="noStrike">
                <a:solidFill>
                  <a:srgbClr val="000000"/>
                </a:solidFill>
                <a:latin typeface="Corbel"/>
                <a:ea typeface="Tahoma"/>
              </a:rPr>
              <a:t> برای کار با حداقل مقدار مواد شیمیایی فرار و رادیونوکلوئیدها قابل قبولند.</a:t>
            </a:r>
            <a:r>
              <a:rPr b="0" lang="en-US" sz="2800" spc="-1" strike="noStrike">
                <a:solidFill>
                  <a:srgbClr val="000000"/>
                </a:solidFill>
                <a:latin typeface="Corbel"/>
              </a:rPr>
              <a:t> </a:t>
            </a:r>
            <a:endParaRPr b="0" lang="en-US" sz="28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گر مقدار مواد فرار و سمی زیاد است ، لازم است تا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B2</a:t>
            </a:r>
            <a:r>
              <a:rPr b="0" lang="fa-IR" sz="2000" spc="-1" strike="noStrike">
                <a:solidFill>
                  <a:srgbClr val="000000"/>
                </a:solidFill>
                <a:latin typeface="Corbel"/>
                <a:ea typeface="Tahoma"/>
              </a:rPr>
              <a:t> استفاده شود.</a:t>
            </a:r>
            <a:r>
              <a:rPr b="0" lang="fa-IR" sz="2800" spc="-1" strike="noStrike">
                <a:solidFill>
                  <a:srgbClr val="000000"/>
                </a:solidFill>
                <a:latin typeface="Corbel"/>
                <a:ea typeface="Tahoma"/>
              </a:rPr>
              <a:t> </a:t>
            </a:r>
            <a:endParaRPr b="0" lang="en-US" sz="2800" spc="-1" strike="noStrike">
              <a:solidFill>
                <a:srgbClr val="000000"/>
              </a:solidFill>
              <a:latin typeface="Corbel"/>
            </a:endParaRPr>
          </a:p>
        </p:txBody>
      </p:sp>
    </p:spTree>
  </p:cSld>
  <p:transition>
    <p:split dir="in" orient="vert"/>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85">
                                            <p:txEl>
                                              <p:pRg st="4" end="4"/>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385">
                                            <p:txEl>
                                              <p:pRg st="5" end="5"/>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189000" y="152280"/>
            <a:ext cx="8504280" cy="1262160"/>
          </a:xfrm>
          <a:prstGeom prst="rect">
            <a:avLst/>
          </a:prstGeom>
          <a:ln w="0">
            <a:noFill/>
          </a:ln>
        </p:spPr>
      </p:pic>
      <p:pic>
        <p:nvPicPr>
          <p:cNvPr id="387" name="Content Placeholder 3" descr="untitled.bmp"/>
          <p:cNvPicPr/>
          <p:nvPr/>
        </p:nvPicPr>
        <p:blipFill>
          <a:blip r:embed="rId2"/>
          <a:stretch/>
        </p:blipFill>
        <p:spPr>
          <a:xfrm>
            <a:off x="838080" y="1676520"/>
            <a:ext cx="7467840" cy="4800600"/>
          </a:xfrm>
          <a:prstGeom prst="rect">
            <a:avLst/>
          </a:prstGeom>
          <a:ln w="0">
            <a:noFill/>
          </a:ln>
        </p:spPr>
      </p:pic>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60480" y="-6480"/>
            <a:ext cx="8632800" cy="1427400"/>
          </a:xfrm>
          <a:prstGeom prst="rect">
            <a:avLst/>
          </a:prstGeom>
          <a:ln w="0">
            <a:noFill/>
          </a:ln>
        </p:spPr>
      </p:pic>
      <p:sp>
        <p:nvSpPr>
          <p:cNvPr id="389"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ربرد و محدودیت های کابینتهای حفاظتی بیولوژیکی با مراجعه به استانداردهای ملی می بایست برای تمامی کاربران توضیح داده شود. بایستی خاطرنشان شود که این سیستم اپراتور را از مواجهه با نقص و روش های ضعیف حمایت نخواهد کر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بینت نبایستی استفاده شود مگر آنکه به درستی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وقتی کابینت در حال استفاده است نمی بایست پنل شیشه ای را باز کر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وزاننده های بونسن نباید در کابینت استفاده شوند. گرمای تولید شده جریان هوا را منحرف کرده و به فیلترها آسیب می زن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تمامی کارها می بایست در قسمت میانی یا عقبی سطح کار انجام پذیرد واز پنل شیشه ای قابل دیدن باش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اپراتور نباید در جریان هوا اختلال ایجادکند از طریق انجام کارهای تکراری و حرکت دادن زیاد بازوهایش.</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طح کابینت حفاظتی بیولوژیکی بایستی با استفاده از ضدعفونی کننده مناسب بعد از اتمام کار و در پایان روز تمیز شو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قبل از شروع کار و بعد از اتمام کار در کابینت، هواکش کابینت بایستی حداقل </a:t>
            </a:r>
            <a:r>
              <a:rPr b="0" lang="fa-IR" sz="1800" spc="-1" strike="noStrike">
                <a:solidFill>
                  <a:srgbClr val="000000"/>
                </a:solidFill>
                <a:latin typeface="Corbel"/>
                <a:ea typeface="Tahoma"/>
              </a:rPr>
              <a:t>5</a:t>
            </a:r>
            <a:r>
              <a:rPr b="0" lang="fa-IR" sz="1800" spc="-1" strike="noStrike">
                <a:solidFill>
                  <a:srgbClr val="000000"/>
                </a:solidFill>
                <a:latin typeface="Corbel"/>
                <a:ea typeface="Tahoma"/>
              </a:rPr>
              <a:t> دقیقه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transition>
    <p:split dir="in" orient="vert"/>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389">
                                            <p:txEl>
                                              <p:pRg st="4" end="4"/>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89">
                                            <p:txEl>
                                              <p:pRg st="6" end="6"/>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189000" y="152280"/>
            <a:ext cx="8504280" cy="1262160"/>
          </a:xfrm>
          <a:prstGeom prst="rect">
            <a:avLst/>
          </a:prstGeom>
          <a:ln w="0">
            <a:noFill/>
          </a:ln>
        </p:spPr>
      </p:pic>
      <p:sp>
        <p:nvSpPr>
          <p:cNvPr id="391"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مایعات با دهان از طریق پیپت ممنوع است.</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پیپتها بایستی درپوش داشته باشند تا آلودگی وسایل پیپت کاهش پیدا ک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رگز نباید هوا داخل مایعی که محتوی عوامل عفونت زاست دم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نمی بایست توسط پیپت با مکش و استخراج متناوب مخلوط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ایعات نباید با فشار از پیپت خارج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علامت دار نسبت به انواع دیگر بهترند، چون آنها نیاز به خارج کردن آخرین قطره ندا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رنگها با سوزنهای زیرپوستی نباید برای پیپت استفاده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 انتشار مواد عفونی چکانده شده از پیپت بپرهیزید و برای این منظور مواد جاذب بایستی روی سطح کار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پیپتها را بایستی برای مدت زمان مناسبی قبل از دفع در ضدعفونی کننده قرار دا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391">
                                            <p:txEl>
                                              <p:pRg st="5" end="5"/>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391">
                                            <p:txEl>
                                              <p:pRg st="6" end="6"/>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91">
                                            <p:txEl>
                                              <p:pRg st="7" end="7"/>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3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128520" y="79200"/>
            <a:ext cx="8564760" cy="1335240"/>
          </a:xfrm>
          <a:prstGeom prst="rect">
            <a:avLst/>
          </a:prstGeom>
          <a:ln w="0">
            <a:noFill/>
          </a:ln>
        </p:spPr>
      </p:pic>
      <p:sp>
        <p:nvSpPr>
          <p:cNvPr id="393"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ذرات و قطرات بزرگ (بزرگتر از </a:t>
            </a:r>
            <a:r>
              <a:rPr b="0" lang="fa-IR" sz="2400" spc="-1" strike="noStrike">
                <a:solidFill>
                  <a:srgbClr val="000000"/>
                </a:solidFill>
                <a:latin typeface="Corbel"/>
                <a:ea typeface="Tahoma"/>
              </a:rPr>
              <a:t>5</a:t>
            </a:r>
            <a:r>
              <a:rPr b="0" lang="fa-IR" sz="2400" spc="-1" strike="noStrike">
                <a:solidFill>
                  <a:srgbClr val="000000"/>
                </a:solidFill>
                <a:latin typeface="Corbel"/>
                <a:ea typeface="Tahoma"/>
              </a:rPr>
              <a:t> میکرومتر در قطر) نباید حین دستکاری های میکروبیولوژیکی به سرعت روی سطوح و روی دستهای اپراتور رها شوند. بایستی دستکشهای یکبار مصرف پوشی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غذا و نوشیدنی نباید در آزمایشگاه ذخیره و یا مصرف شود.</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هیچ ماده ای نباید در آزمایشگاه در دهان گذاشته شود. (مداد، خودکار، آدامس و...)</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ز لوازم آرایشی نباید در آزمایشگاه استفا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صورت ، چشمها و دهان بایستی حفاظ گذاری شوند یا در حین کار کردن که امکان پاشش مواد عفونی وجود دارد بایستی حفاظت شون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93">
                                            <p:txEl>
                                              <p:pRg st="3" end="3"/>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22400" y="79200"/>
            <a:ext cx="8570880" cy="1335240"/>
          </a:xfrm>
          <a:prstGeom prst="rect">
            <a:avLst/>
          </a:prstGeom>
          <a:ln w="0">
            <a:noFill/>
          </a:ln>
        </p:spPr>
      </p:pic>
      <p:sp>
        <p:nvSpPr>
          <p:cNvPr id="395"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بتدا سطح خارجی آمپول را پاکسازی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یک علامت روی تیوب نزدیک به وسط پارچه یا درپوش سلولزی بز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بل از شکستن آن، آمپول را داخل کتان آغشته به الکل نگه داشته با دستها حفاظت شون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سمت بالای آنرا جدا کرده و با آن مانند ماده آلوده رفتار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گر هنوز درپوش روی محتوای آمپول است، آنرا با پنسهای استریل جدا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برای جلوگیری از کف آلوده شدن، مایع را به آرامی به آمپول اضافه کنید تا دوباره به حالت معلق درآی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171360" y="-92160"/>
            <a:ext cx="8521920" cy="1506600"/>
          </a:xfrm>
          <a:prstGeom prst="rect">
            <a:avLst/>
          </a:prstGeom>
          <a:ln w="0">
            <a:noFill/>
          </a:ln>
        </p:spPr>
      </p:pic>
      <p:sp>
        <p:nvSpPr>
          <p:cNvPr id="397"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کش در تمامی مراحل بایستی پوش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خون بایستی توسط یک فرد آموزش دیده از بیماران وحیوانات جمع آور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رای حجامت و نیشتر زدن، سیستم های سنتی و معمولی سرنگ و سوزن بایستی با وسایل خلأ یکبار مصرف جایگزین شوند زیرا این وسایل باعث هدایت مستقیم خون به داخل تیوبهای درپوش دار می شود و بطور خود به خودی بعد از استفاده سوزنها بدون کاربرد باقی می مان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یوبها بایستی در ظروف کافی برای انتقال به آزمایشگاه قرار گیرند. فرمهای درخواست نیز بایستی در کیسه ها پاکتهای ضد آب بطور مجزا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مند دریافت کننده نباید این کیسه را باز کند. </a:t>
            </a:r>
            <a:endParaRPr b="0" lang="en-US" sz="20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1" descr=""/>
          <p:cNvPicPr/>
          <p:nvPr/>
        </p:nvPicPr>
        <p:blipFill>
          <a:blip r:embed="rId1"/>
          <a:stretch/>
        </p:blipFill>
        <p:spPr>
          <a:xfrm>
            <a:off x="189000" y="152280"/>
            <a:ext cx="8504280" cy="1262160"/>
          </a:xfrm>
          <a:prstGeom prst="rect">
            <a:avLst/>
          </a:prstGeom>
          <a:ln w="0">
            <a:noFill/>
          </a:ln>
        </p:spPr>
      </p:pic>
      <p:pic>
        <p:nvPicPr>
          <p:cNvPr id="399" name="Content Placeholder 3" descr="untitled.bmp"/>
          <p:cNvPicPr/>
          <p:nvPr/>
        </p:nvPicPr>
        <p:blipFill>
          <a:blip r:embed="rId2"/>
          <a:stretch/>
        </p:blipFill>
        <p:spPr>
          <a:xfrm>
            <a:off x="2133720" y="1752480"/>
            <a:ext cx="4484520" cy="480060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324000" y="-6480"/>
            <a:ext cx="8369280" cy="142092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involving agents of moderate potential hazard to personnel and the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Measles virus               HBV</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almonella</a:t>
            </a:r>
            <a:endParaRPr b="0" lang="en-US" sz="3200" spc="-1" strike="noStrike">
              <a:solidFill>
                <a:srgbClr val="000000"/>
              </a:solidFill>
              <a:latin typeface="Corbel"/>
            </a:endParaRPr>
          </a:p>
        </p:txBody>
      </p:sp>
    </p:spTree>
  </p:cSld>
  <p:transition>
    <p:split dir="in" orient="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42" dur="2000"/>
                                        <p:tgtEl>
                                          <p:spTgt spid="312">
                                            <p:txEl>
                                              <p:pRg st="0" end="0"/>
                                            </p:txEl>
                                          </p:spTgt>
                                        </p:tgtEl>
                                      </p:cBhvr>
                                    </p:animEffect>
                                  </p:childTnLst>
                                </p:cTn>
                              </p:par>
                              <p:par>
                                <p:cTn id="43" nodeType="withEffect" fill="hold" presetClass="entr" presetID="8" presetSubtype="16">
                                  <p:stCondLst>
                                    <p:cond delay="0"/>
                                  </p:stCondLst>
                                  <p:childTnLst>
                                    <p:set>
                                      <p:cBhvr>
                                        <p:cTn id="44"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45" dur="2000"/>
                                        <p:tgtEl>
                                          <p:spTgt spid="312">
                                            <p:txEl>
                                              <p:pRg st="1" end="1"/>
                                            </p:txEl>
                                          </p:spTgt>
                                        </p:tgtEl>
                                      </p:cBhvr>
                                    </p:animEffect>
                                  </p:childTnLst>
                                </p:cTn>
                              </p:par>
                              <p:par>
                                <p:cTn id="46" nodeType="withEffect" fill="hold" presetClass="entr" presetID="8" presetSubtype="16">
                                  <p:stCondLst>
                                    <p:cond delay="0"/>
                                  </p:stCondLst>
                                  <p:childTnLst>
                                    <p:set>
                                      <p:cBhvr>
                                        <p:cTn id="47"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48" dur="2000"/>
                                        <p:tgtEl>
                                          <p:spTgt spid="3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3355920"/>
            <a:ext cx="8077320" cy="1673280"/>
          </a:xfrm>
          <a:prstGeom prst="rect">
            <a:avLst/>
          </a:prstGeom>
          <a:noFill/>
          <a:ln w="0">
            <a:noFill/>
          </a:ln>
        </p:spPr>
        <p:txBody>
          <a:bodyPr lIns="9000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ffc800"/>
              </a:solidFill>
              <a:latin typeface="Corbel"/>
            </a:endParaRPr>
          </a:p>
        </p:txBody>
      </p:sp>
      <p:sp>
        <p:nvSpPr>
          <p:cNvPr id="401" name="PlaceHolder 2"/>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2" name="Rectangle 6" descr=""/>
          <p:cNvPicPr/>
          <p:nvPr/>
        </p:nvPicPr>
        <p:blipFill>
          <a:blip r:embed="rId1"/>
          <a:stretch/>
        </p:blipFill>
        <p:spPr>
          <a:xfrm>
            <a:off x="-285840" y="1871640"/>
            <a:ext cx="9515520" cy="194472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115920" y="55440"/>
            <a:ext cx="8577360" cy="135900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a:t>
            </a:r>
            <a:r>
              <a:rPr b="0" lang="fa-IR" sz="3200" spc="-1" strike="noStrike">
                <a:solidFill>
                  <a:srgbClr val="000000"/>
                </a:solidFill>
                <a:latin typeface="Corbel"/>
                <a:ea typeface="Tahoma"/>
              </a:rPr>
              <a:t> </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این کُد یک لیستی است از ضروری ترین اقدامات و روش های آزمایشگاهی که بر پایه </a:t>
            </a:r>
            <a:r>
              <a:rPr b="0" lang="en-US" sz="3200" spc="-1" strike="noStrike">
                <a:solidFill>
                  <a:srgbClr val="000000"/>
                </a:solidFill>
                <a:latin typeface="Corbel"/>
                <a:ea typeface="Arial"/>
              </a:rPr>
              <a:t>GMT</a:t>
            </a:r>
            <a:r>
              <a:rPr b="0" lang="fa-IR" sz="3200" spc="-1" strike="noStrike">
                <a:solidFill>
                  <a:srgbClr val="000000"/>
                </a:solidFill>
                <a:latin typeface="Corbel"/>
                <a:ea typeface="Tahoma"/>
              </a:rPr>
              <a:t> است. در بسیاری از آزمایشگاه ها و برنامه های آزمایشگاهی ملی، این کُد به منظور توسعه اقدامات و دستورالعمل های نوشته شده برای عملیات ایمن آزمایشگاهی استفاده ميشود.</a:t>
            </a:r>
            <a:endParaRPr b="0" lang="en-US" sz="3200" spc="-1" strike="noStrike">
              <a:solidFill>
                <a:srgbClr val="000000"/>
              </a:solidFill>
              <a:latin typeface="Corbe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22400" y="-30240"/>
            <a:ext cx="8570880" cy="167004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دسترسی:</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علائم و نشانهای هشدار بین المللی خطرات بیولوژیکی می بایست روی درب اتاق هایی که در آنجا میکروارگانیسم ها با ریسک گروه </a:t>
            </a: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یا بالاتر اداره می شوند، نمایش داده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نها به افراد مجاز می بایست اجازه داده شود تا وارد محیط های کاری آزمایشگاه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بهای آزمایشگاه باید بسته نگاه داشته شو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چه ها اجازۀ دخول به محیط های آزمایشگاهی را ندار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رسی به حیوان خانه ها مستلزم اجازۀ خاصی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غیر از حیوانات مشمول در کارهای آزمایشگاهی، حیوان دیگری پذیرفته نمی شو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71360" y="231840"/>
            <a:ext cx="8521920" cy="122544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orbel"/>
                <a:cs typeface="Tahoma"/>
              </a:rPr>
              <a:t>حفاظت فردی:</a:t>
            </a:r>
            <a:endParaRPr b="0" lang="en-US" sz="30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تمام مدت کار در آزمایشگاه می بایست گانها یا یونیفورم های خاص پوشیده شو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دستکشهای مناسب هنگام کار کردن مستقیم یا برخورد تصادفی با خون، مایعات بدن و مواد بالقوه عفونی یا حیوانانت عفونی . بعد از اتمام کار، دستکشها را ضد عفونی کرده و در آورید و بعد دستها را با آب بشویی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کارکنان می بایست دستهایشان را بعد از کار با حیوانات و مواد عفونی بشویند و بعد محیط آزمایشگاه را ترک کنن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ستفاده از عینک های ایمنی، شیلدها یا وسایل حفاظتی دیگر برای حفاظت از چشمها وصورت از پاشیدگی مواد، برخورد اشیاء و منابع مصنوع پرتو ماوراءبنفش.</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لباسهای آزمایشگاهی در خارج از آزمایشگاه ممنوع می باش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پاپوش های بدون انگشت در آزمایشگاه ممنوع است .</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خوردن ، نوشیدن، سیگار کشیدن، استفاده از لوازم آرایشی و استفاده از لنزهای تماسی در محیط های آزمایشگاهی ممنوع است.</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ذخیره مواد غذایی و نوشیدنی های انسانی در هر جای آزمایشگاه ممنوع است.</a:t>
            </a:r>
            <a:endParaRPr b="0" lang="en-US" sz="1900" spc="-1" strike="noStrike">
              <a:solidFill>
                <a:srgbClr val="000000"/>
              </a:solidFill>
              <a:latin typeface="Corbel"/>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22400" y="55440"/>
            <a:ext cx="8570880" cy="135900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محیط کار آزمایشگاه:</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آزمایشگاه می بایست تمیز و عاری از مواد نامربوط به کار نگاه داشته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طوح کاری در انتهای روز کاری می بایست از هر ریخت و پاش مواد بالقوه خطرناک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مواد و نمونه های آلوده قبل از تخلیه یا پاکسازی برای استفاده مجدد می بایست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سته بندی و نقل و انتقال مواد باید طبق قوانین بین المللی اجرا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زمانیکه پنجره ها می توانند باز شوند، آنها را باید با صفحات تنظیم کننده دما پوشش دا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04:54:21Z</dcterms:created>
  <dc:creator>Mary</dc:creator>
  <dc:description/>
  <dc:language>en-US</dc:language>
  <cp:lastModifiedBy>Mary</cp:lastModifiedBy>
  <dcterms:modified xsi:type="dcterms:W3CDTF">2009-06-06T17:10:15Z</dcterms:modified>
  <cp:revision>98</cp:revision>
  <dc:subject/>
  <dc:title>خطرات بیولوژیک آزمایشگاه</dc:title>
</cp:coreProperties>
</file>